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8.wmf" ContentType="image/x-wmf"/>
  <Override PartName="/ppt/media/image27.jpeg" ContentType="image/jpeg"/>
  <Override PartName="/ppt/media/image52.png" ContentType="image/png"/>
  <Override PartName="/ppt/media/image37.wmf" ContentType="image/x-wmf"/>
  <Override PartName="/ppt/media/image41.wmf" ContentType="image/x-wmf"/>
  <Override PartName="/ppt/media/image43.gif" ContentType="image/gif"/>
  <Override PartName="/ppt/media/image46.png" ContentType="image/png"/>
  <Override PartName="/ppt/media/image19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9.wmf" ContentType="image/x-wmf"/>
  <Override PartName="/ppt/media/image54.wmf" ContentType="image/x-wmf"/>
  <Override PartName="/ppt/media/image14.png" ContentType="image/png"/>
  <Override PartName="/ppt/media/image53.png" ContentType="image/png"/>
  <Override PartName="/ppt/media/image31.png" ContentType="image/png"/>
  <Override PartName="/ppt/media/image55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2.wmf" ContentType="image/x-wmf"/>
  <Override PartName="/ppt/media/image39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B32E-47C8-4AF7-AF95-E34254A80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6BF360-32D6-49A7-9786-E370F48FC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9572C3-D731-4E18-86E1-DFE2D21B1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7813A9-2BAC-4E82-8AFA-D76A81C94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C9FA-135A-4286-BF83-50F28015D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AD11-D7A6-4F6D-A17A-1B5B79499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E521-DD37-4289-9295-50195ABFE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4C550C-54ED-4C4C-B2AC-CE3E5C900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4B46-9E23-40AF-9145-CEA7A5AB0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2E0DC2-CBA3-4843-AC29-B64FED6DC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60CF-9404-4D40-9C38-8D6794543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D9C6CD-6FA3-4463-A26D-5711C4226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10F4-3197-4BEC-9674-898E34F52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0CEF-4908-4823-B3A0-69B8FEF4D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0177-81B3-4192-9E2D-374207B51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1B98-85F3-4DAC-BC6D-AA6DBC681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6B591D-5FCF-4DDE-B59E-02293DDAA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72EF-09A2-44FD-AC65-F6FD9D757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CCCDEB-B3CE-4046-A1E6-1D9895D4A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187F85-1082-453D-BE77-52DE99324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47AF-AEDD-4D65-9294-0ABBD77FE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F60E-8E91-49AA-AB32-997FEC085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1266-3028-4CDC-9806-3F9A4B411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54B391-D56E-412A-A8E3-B11F9078D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98AE-ADA9-4E20-A580-29350086F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EBFD0-4C94-4B30-B9BA-40CD0D1A3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6DC8F-4276-477A-A3DC-F6DA78488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BE722-2518-4C23-B66D-CF81F34FB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1DA89-EF0D-42B0-ABE8-6441E20484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36765-1A54-4347-8225-451CC627D0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923ED-7EC4-42F0-A72B-4ACF543D35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3A71C-45ED-459A-88CB-644936213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0FE2C-D9A1-4459-A13B-F52F1281F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FF5E1-B87F-4198-80D2-C0132EA58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B3B2F-C0E1-454C-8F1E-83BE90F00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CD39C-D16C-4497-B156-1EA8E1BB3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79366-E538-46B6-AF3A-81187D778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4596-D6E8-4235-8B52-2B4BC056BF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50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4.wmf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3048120" y="1981080"/>
            <a:ext cx="56386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Управление информаци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drc1"/>
          <p:cNvPicPr/>
          <p:nvPr/>
        </p:nvPicPr>
        <p:blipFill>
          <a:blip r:embed="rId1"/>
          <a:stretch/>
        </p:blipFill>
        <p:spPr>
          <a:xfrm>
            <a:off x="3200400" y="292896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ы и таблицы,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провер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2438280" y="201456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648320" y="1557360"/>
            <a:ext cx="32763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 rot="5400000">
            <a:off x="4419720" y="247176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7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5216-B6F6-4468-90AB-645E606DEE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8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_req_form"/>
          <p:cNvPicPr/>
          <p:nvPr/>
        </p:nvPicPr>
        <p:blipFill>
          <a:blip r:embed="rId2"/>
          <a:stretch/>
        </p:blipFill>
        <p:spPr>
          <a:xfrm>
            <a:off x="533520" y="16747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1"/>
          <p:cNvSpPr/>
          <p:nvPr/>
        </p:nvSpPr>
        <p:spPr>
          <a:xfrm>
            <a:off x="1066680" y="18273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а данных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80880" y="1523880"/>
            <a:ext cx="845820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Бумаж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олговечные материалы для зап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записи 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мпьютеризирован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график регулярного резервного коп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F6F5-C535-4C26-8A7C-CF875B33A7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конфиденциальность  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3" descr="j0178425"/>
          <p:cNvPicPr/>
          <p:nvPr/>
        </p:nvPicPr>
        <p:blipFill>
          <a:blip r:embed="rId1"/>
          <a:stretch/>
        </p:blipFill>
        <p:spPr>
          <a:xfrm>
            <a:off x="3657600" y="445608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228600" y="1676520"/>
            <a:ext cx="8839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уководитель лаборатории отвечает за установление правил и процедур п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е личных сведений о пациен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ению конфиденциальности лаборатор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j0409031"/>
          <p:cNvPicPr/>
          <p:nvPr/>
        </p:nvPicPr>
        <p:blipFill>
          <a:blip r:embed="rId2"/>
          <a:stretch/>
        </p:blipFill>
        <p:spPr>
          <a:xfrm>
            <a:off x="1295280" y="4456080"/>
            <a:ext cx="2362320" cy="1746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MCj02506500000[1]"/>
          <p:cNvPicPr/>
          <p:nvPr/>
        </p:nvPicPr>
        <p:blipFill>
          <a:blip r:embed="rId3"/>
          <a:stretch/>
        </p:blipFill>
        <p:spPr>
          <a:xfrm>
            <a:off x="5334120" y="45324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8A8A-3A9E-47BA-AFF0-D4A1CBED1B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64FC-F6E4-4253-BF35-62F04BD42E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ы отчетности о результатах анализ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685800" y="1457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3276720" y="2752560"/>
            <a:ext cx="4419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разборч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762120" y="237168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б.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762120" y="3362400"/>
            <a:ext cx="22096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б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ализ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льтивирование и чувств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чет отправлен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Б Браун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т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7.06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7" descr="j0433870"/>
          <p:cNvPicPr/>
          <p:nvPr/>
        </p:nvPicPr>
        <p:blipFill>
          <a:blip r:embed="rId1"/>
          <a:stretch/>
        </p:blipFill>
        <p:spPr>
          <a:xfrm>
            <a:off x="1066680" y="153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8"/>
          <p:cNvSpPr/>
          <p:nvPr/>
        </p:nvSpPr>
        <p:spPr>
          <a:xfrm>
            <a:off x="2209680" y="15336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эри Д Джонст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28/03/1949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1234 Littletown Road, Bergly Bay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5114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3B19-1BC1-482D-AF0A-B8248DEECC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0720"/>
            <a:ext cx="6248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информ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6" name="Picture 13" descr="j0151699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4"/>
          <p:cNvSpPr/>
          <p:nvPr/>
        </p:nvSpPr>
        <p:spPr>
          <a:xfrm>
            <a:off x="7086600" y="28274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ekton Pro"/>
              </a:rPr>
              <a:t>Разные см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6" descr="j0422773"/>
          <p:cNvPicPr/>
          <p:nvPr/>
        </p:nvPicPr>
        <p:blipFill>
          <a:blip r:embed="rId2"/>
          <a:stretch/>
        </p:blipFill>
        <p:spPr>
          <a:xfrm>
            <a:off x="64771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655308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работайте хорошую систему связи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пределах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кли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другими медработ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референс-лаборатор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официальными организ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1BC2-3E79-4750-84F9-B5CF243090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Diagram 2"/>
          <p:cNvGrpSpPr/>
          <p:nvPr/>
        </p:nvGrpSpPr>
        <p:grpSpPr>
          <a:xfrm>
            <a:off x="460440" y="619200"/>
            <a:ext cx="8454600" cy="5552640"/>
            <a:chOff x="460440" y="619200"/>
            <a:chExt cx="8454600" cy="5552640"/>
          </a:xfrm>
        </p:grpSpPr>
        <p:sp>
          <p:nvSpPr>
            <p:cNvPr id="313" name="_s2052"/>
            <p:cNvSpPr/>
            <p:nvPr/>
          </p:nvSpPr>
          <p:spPr>
            <a:xfrm flipH="1" flipV="1">
              <a:off x="293508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2053"/>
            <p:cNvSpPr/>
            <p:nvPr/>
          </p:nvSpPr>
          <p:spPr>
            <a:xfrm>
              <a:off x="460440" y="1379880"/>
              <a:ext cx="2702160" cy="1438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совместимость компьютерных 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2054"/>
            <p:cNvSpPr/>
            <p:nvPr/>
          </p:nvSpPr>
          <p:spPr>
            <a:xfrm flipH="1">
              <a:off x="2534400" y="3570840"/>
              <a:ext cx="1016640" cy="16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2055"/>
            <p:cNvSpPr/>
            <p:nvPr/>
          </p:nvSpPr>
          <p:spPr>
            <a:xfrm>
              <a:off x="460440" y="3173760"/>
              <a:ext cx="2094840" cy="143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шибки при запис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2056"/>
            <p:cNvSpPr/>
            <p:nvPr/>
          </p:nvSpPr>
          <p:spPr>
            <a:xfrm flipH="1">
              <a:off x="3581640" y="4058640"/>
              <a:ext cx="532440" cy="742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2057"/>
            <p:cNvSpPr/>
            <p:nvPr/>
          </p:nvSpPr>
          <p:spPr>
            <a:xfrm>
              <a:off x="1752840" y="4734000"/>
              <a:ext cx="2505600" cy="143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лохая организация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2058"/>
            <p:cNvSpPr/>
            <p:nvPr/>
          </p:nvSpPr>
          <p:spPr>
            <a:xfrm>
              <a:off x="5024880" y="4058640"/>
              <a:ext cx="456120" cy="645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2059"/>
            <p:cNvSpPr/>
            <p:nvPr/>
          </p:nvSpPr>
          <p:spPr>
            <a:xfrm>
              <a:off x="4890240" y="4734000"/>
              <a:ext cx="2422800" cy="143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лохое архив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2060"/>
            <p:cNvSpPr/>
            <p:nvPr/>
          </p:nvSpPr>
          <p:spPr>
            <a:xfrm>
              <a:off x="5590800" y="3570840"/>
              <a:ext cx="1020240" cy="159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2061"/>
            <p:cNvSpPr/>
            <p:nvPr/>
          </p:nvSpPr>
          <p:spPr>
            <a:xfrm>
              <a:off x="6587280" y="3171240"/>
              <a:ext cx="2327760" cy="1438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подходящие фор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2062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2063"/>
            <p:cNvSpPr/>
            <p:nvPr/>
          </p:nvSpPr>
          <p:spPr>
            <a:xfrm>
              <a:off x="5979960" y="1348560"/>
              <a:ext cx="2552040" cy="143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достаточная иден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2064"/>
            <p:cNvSpPr/>
            <p:nvPr/>
          </p:nvSpPr>
          <p:spPr>
            <a:xfrm flipV="1">
              <a:off x="4571280" y="1974600"/>
              <a:ext cx="0" cy="718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2065"/>
            <p:cNvSpPr/>
            <p:nvPr/>
          </p:nvSpPr>
          <p:spPr>
            <a:xfrm>
              <a:off x="3523680" y="619200"/>
              <a:ext cx="2094840" cy="143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полные д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2066"/>
            <p:cNvSpPr/>
            <p:nvPr/>
          </p:nvSpPr>
          <p:spPr>
            <a:xfrm>
              <a:off x="3523680" y="2694240"/>
              <a:ext cx="2094840" cy="1438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AutoShape 21"/>
          <p:cNvSpPr/>
          <p:nvPr/>
        </p:nvSpPr>
        <p:spPr>
          <a:xfrm>
            <a:off x="2935440" y="2335320"/>
            <a:ext cx="3541680" cy="2236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бщие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04920" y="1676520"/>
            <a:ext cx="609588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ебуются хорошо структурированные журналы  регистрации и рабочие журналы, котор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ы в применении и удобны для за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поиск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обобщение данных и написание отч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j0408884"/>
          <p:cNvPicPr/>
          <p:nvPr/>
        </p:nvPicPr>
        <p:blipFill>
          <a:blip r:embed="rId2"/>
          <a:srcRect l="0" t="0" r="30234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E85E-6FA1-44B6-8389-910CC77279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A80C-0387-4092-9F86-A70F1BD009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304920" y="335268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Не записан 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6477120" y="497196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азвание деревни не запис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6553080" y="289548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записаны в графе для названия дере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вод да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0E5E-66CB-4BC1-AB41-6C2428AEBC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53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685800" y="3048120"/>
            <a:ext cx="25909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читаемо –следы от записей фломастером на другой стороне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657600" y="3276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писано неразборч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5"/>
          <p:cNvSpPr/>
          <p:nvPr/>
        </p:nvSpPr>
        <p:spPr>
          <a:xfrm>
            <a:off x="2286000" y="5105520"/>
            <a:ext cx="1219320" cy="83808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457200" y="1798560"/>
            <a:ext cx="822960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кончательный отчет – это основной продукт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ьте его профессион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а система для приготовления копий отчетов для архив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надежное хранение бумажных запис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6D90-C56E-40D1-A803-7DA02081EA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457200" y="404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5680" y="1384200"/>
            <a:ext cx="840744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важные элементы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яснить аспекты, требующие внимания при создании бумаж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реимущества и недостатки компьютеризирован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8F99-5156-4F89-98BB-37730CFB68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80880" y="642924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8188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и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ти результа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слежива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ценить происшеств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лезные правила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установленное врем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егкий 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разумную систему для орган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 хронологическом поряд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457200" y="458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ранение бумаж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MCj02374610000[1]"/>
          <p:cNvPicPr/>
          <p:nvPr/>
        </p:nvPicPr>
        <p:blipFill>
          <a:blip r:embed="rId1"/>
          <a:stretch/>
        </p:blipFill>
        <p:spPr>
          <a:xfrm>
            <a:off x="6191280" y="1219320"/>
            <a:ext cx="2320920" cy="3047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9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 rot="1204800">
            <a:off x="6749640" y="321768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0463-E99B-48DD-B058-40A16DDCAC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stack of records"/>
          <p:cNvPicPr/>
          <p:nvPr/>
        </p:nvPicPr>
        <p:blipFill>
          <a:blip r:embed="rId1"/>
          <a:stretch/>
        </p:blipFill>
        <p:spPr>
          <a:xfrm>
            <a:off x="685800" y="5335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19051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mouse_cdc_hantavirus"/>
          <p:cNvPicPr/>
          <p:nvPr/>
        </p:nvPicPr>
        <p:blipFill>
          <a:blip r:embed="rId3"/>
          <a:stretch/>
        </p:blipFill>
        <p:spPr>
          <a:xfrm>
            <a:off x="685800" y="35481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5"/>
          <p:cNvSpPr/>
          <p:nvPr/>
        </p:nvSpPr>
        <p:spPr>
          <a:xfrm>
            <a:off x="1447920" y="3886200"/>
            <a:ext cx="2209680" cy="1905120"/>
          </a:xfrm>
          <a:custGeom>
            <a:avLst/>
            <a:gdLst>
              <a:gd name="textAreaLeft" fmla="*/ 323280 w 2209680"/>
              <a:gd name="textAreaRight" fmla="*/ 1886400 w 2209680"/>
              <a:gd name="textAreaTop" fmla="*/ 279000 h 1905120"/>
              <a:gd name="textAreaBottom" fmla="*/ 16261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0C35-A041-4C70-9665-A4791DFE1E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7FB9-5278-44DA-A78B-D75493A6EB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изированная система (ЛИМС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рианты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ная на месте система на основе купленной программы по работе с базами да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ностью разработанная покупная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яйт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рость и пластичность сист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8" descr="j0285750"/>
          <p:cNvPicPr/>
          <p:nvPr/>
        </p:nvPicPr>
        <p:blipFill>
          <a:blip r:embed="rId1"/>
          <a:stretch/>
        </p:blipFill>
        <p:spPr>
          <a:xfrm>
            <a:off x="6172200" y="44956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j0205466"/>
          <p:cNvPicPr/>
          <p:nvPr/>
        </p:nvPicPr>
        <p:blipFill>
          <a:blip r:embed="rId2"/>
          <a:stretch/>
        </p:blipFill>
        <p:spPr>
          <a:xfrm>
            <a:off x="4505400" y="419112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_twirling"/>
          <p:cNvPicPr/>
          <p:nvPr/>
        </p:nvPicPr>
        <p:blipFill>
          <a:blip r:embed="rId3"/>
          <a:stretch/>
        </p:blipFill>
        <p:spPr>
          <a:xfrm>
            <a:off x="7772400" y="3429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_twirling"/>
          <p:cNvPicPr/>
          <p:nvPr/>
        </p:nvPicPr>
        <p:blipFill>
          <a:blip r:embed="rId4"/>
          <a:stretch/>
        </p:blipFill>
        <p:spPr>
          <a:xfrm>
            <a:off x="7620120" y="3809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30CC-0128-4E3E-A558-B4DEFD6E9B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Content Placeholder 140289"/>
          <p:cNvGrpSpPr/>
          <p:nvPr/>
        </p:nvGrpSpPr>
        <p:grpSpPr>
          <a:xfrm>
            <a:off x="731880" y="625320"/>
            <a:ext cx="8181360" cy="5681520"/>
            <a:chOff x="731880" y="625320"/>
            <a:chExt cx="8181360" cy="5681520"/>
          </a:xfrm>
        </p:grpSpPr>
        <p:sp>
          <p:nvSpPr>
            <p:cNvPr id="388" name="_s3080"/>
            <p:cNvSpPr/>
            <p:nvPr/>
          </p:nvSpPr>
          <p:spPr>
            <a:xfrm flipH="1">
              <a:off x="2791080" y="3761280"/>
              <a:ext cx="1119960" cy="461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3076"/>
            <p:cNvSpPr/>
            <p:nvPr/>
          </p:nvSpPr>
          <p:spPr>
            <a:xfrm flipH="1" flipV="1">
              <a:off x="3274560" y="2253600"/>
              <a:ext cx="835560" cy="70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3077"/>
            <p:cNvSpPr/>
            <p:nvPr/>
          </p:nvSpPr>
          <p:spPr>
            <a:xfrm>
              <a:off x="1371240" y="1065240"/>
              <a:ext cx="215496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вязь с другими участк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3078"/>
            <p:cNvSpPr/>
            <p:nvPr/>
          </p:nvSpPr>
          <p:spPr>
            <a:xfrm flipH="1" flipV="1">
              <a:off x="2526840" y="3174840"/>
              <a:ext cx="1276200" cy="157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3079"/>
            <p:cNvSpPr/>
            <p:nvPr/>
          </p:nvSpPr>
          <p:spPr>
            <a:xfrm>
              <a:off x="731880" y="3657600"/>
              <a:ext cx="2239560" cy="127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правление финанс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_s3081"/>
            <p:cNvSpPr/>
            <p:nvPr/>
          </p:nvSpPr>
          <p:spPr>
            <a:xfrm>
              <a:off x="741240" y="2362680"/>
              <a:ext cx="1801800" cy="127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досту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3082"/>
            <p:cNvSpPr/>
            <p:nvPr/>
          </p:nvSpPr>
          <p:spPr>
            <a:xfrm flipH="1">
              <a:off x="3166200" y="4039200"/>
              <a:ext cx="12178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3083"/>
            <p:cNvSpPr/>
            <p:nvPr/>
          </p:nvSpPr>
          <p:spPr>
            <a:xfrm>
              <a:off x="1064880" y="5028480"/>
              <a:ext cx="3466800" cy="127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и анализ тенден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_s3084"/>
            <p:cNvSpPr/>
            <p:nvPr/>
          </p:nvSpPr>
          <p:spPr>
            <a:xfrm>
              <a:off x="4995360" y="4039200"/>
              <a:ext cx="15796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3085"/>
            <p:cNvSpPr/>
            <p:nvPr/>
          </p:nvSpPr>
          <p:spPr>
            <a:xfrm>
              <a:off x="4845240" y="5028480"/>
              <a:ext cx="3460320" cy="127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отче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3086"/>
            <p:cNvSpPr/>
            <p:nvPr/>
          </p:nvSpPr>
          <p:spPr>
            <a:xfrm>
              <a:off x="5465520" y="3759480"/>
              <a:ext cx="1119240" cy="4582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_s3087"/>
            <p:cNvSpPr/>
            <p:nvPr/>
          </p:nvSpPr>
          <p:spPr>
            <a:xfrm>
              <a:off x="6464160" y="3657600"/>
              <a:ext cx="2449080" cy="1278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Детальные разборчивые отче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3088"/>
            <p:cNvSpPr/>
            <p:nvPr/>
          </p:nvSpPr>
          <p:spPr>
            <a:xfrm flipV="1">
              <a:off x="5569920" y="3100680"/>
              <a:ext cx="1439640" cy="229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3089"/>
            <p:cNvSpPr/>
            <p:nvPr/>
          </p:nvSpPr>
          <p:spPr>
            <a:xfrm>
              <a:off x="6829920" y="2362680"/>
              <a:ext cx="1801800" cy="1278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арианты поиска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3090"/>
            <p:cNvSpPr/>
            <p:nvPr/>
          </p:nvSpPr>
          <p:spPr>
            <a:xfrm flipV="1">
              <a:off x="5263560" y="2056680"/>
              <a:ext cx="1028160" cy="8960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3091"/>
            <p:cNvSpPr/>
            <p:nvPr/>
          </p:nvSpPr>
          <p:spPr>
            <a:xfrm>
              <a:off x="6017040" y="1065240"/>
              <a:ext cx="1801800" cy="1278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кач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3092"/>
            <p:cNvSpPr/>
            <p:nvPr/>
          </p:nvSpPr>
          <p:spPr>
            <a:xfrm flipV="1">
              <a:off x="4685040" y="1887480"/>
              <a:ext cx="0" cy="916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3093"/>
            <p:cNvSpPr/>
            <p:nvPr/>
          </p:nvSpPr>
          <p:spPr>
            <a:xfrm>
              <a:off x="3656880" y="625320"/>
              <a:ext cx="2109240" cy="1278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нижение числа ошиб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3094"/>
            <p:cNvSpPr/>
            <p:nvPr/>
          </p:nvSpPr>
          <p:spPr>
            <a:xfrm>
              <a:off x="3784320" y="2805120"/>
              <a:ext cx="1801800" cy="12783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Picture 23"/>
            <p:cNvSpPr/>
            <p:nvPr/>
          </p:nvSpPr>
          <p:spPr>
            <a:xfrm>
              <a:off x="2742480" y="1904040"/>
              <a:ext cx="3499560" cy="32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3"/>
          <p:cNvSpPr/>
          <p:nvPr/>
        </p:nvSpPr>
        <p:spPr>
          <a:xfrm>
            <a:off x="201600" y="380880"/>
            <a:ext cx="36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6"/>
          <p:cNvGrpSpPr/>
          <p:nvPr/>
        </p:nvGrpSpPr>
        <p:grpSpPr>
          <a:xfrm>
            <a:off x="2817720" y="1676520"/>
            <a:ext cx="3583080" cy="3124080"/>
            <a:chOff x="2817720" y="1676520"/>
            <a:chExt cx="3583080" cy="3124080"/>
          </a:xfrm>
        </p:grpSpPr>
        <p:sp>
          <p:nvSpPr>
            <p:cNvPr id="410" name="Freeform 27"/>
            <p:cNvSpPr/>
            <p:nvPr/>
          </p:nvSpPr>
          <p:spPr>
            <a:xfrm>
              <a:off x="2817720" y="1676520"/>
              <a:ext cx="3583080" cy="3124080"/>
            </a:xfrm>
            <a:custGeom>
              <a:avLst/>
              <a:gdLst/>
              <a:ahLst/>
              <a:rect l="l" t="t" r="r" b="b"/>
              <a:pathLst>
                <a:path w="2413" h="1968">
                  <a:moveTo>
                    <a:pt x="654" y="0"/>
                  </a:moveTo>
                  <a:lnTo>
                    <a:pt x="653" y="3"/>
                  </a:lnTo>
                  <a:lnTo>
                    <a:pt x="652" y="7"/>
                  </a:lnTo>
                  <a:lnTo>
                    <a:pt x="651" y="11"/>
                  </a:lnTo>
                  <a:lnTo>
                    <a:pt x="650" y="14"/>
                  </a:lnTo>
                  <a:lnTo>
                    <a:pt x="694" y="59"/>
                  </a:lnTo>
                  <a:lnTo>
                    <a:pt x="739" y="99"/>
                  </a:lnTo>
                  <a:lnTo>
                    <a:pt x="782" y="137"/>
                  </a:lnTo>
                  <a:lnTo>
                    <a:pt x="825" y="172"/>
                  </a:lnTo>
                  <a:lnTo>
                    <a:pt x="867" y="204"/>
                  </a:lnTo>
                  <a:lnTo>
                    <a:pt x="909" y="234"/>
                  </a:lnTo>
                  <a:lnTo>
                    <a:pt x="950" y="262"/>
                  </a:lnTo>
                  <a:lnTo>
                    <a:pt x="991" y="286"/>
                  </a:lnTo>
                  <a:lnTo>
                    <a:pt x="1031" y="309"/>
                  </a:lnTo>
                  <a:lnTo>
                    <a:pt x="1071" y="330"/>
                  </a:lnTo>
                  <a:lnTo>
                    <a:pt x="1109" y="350"/>
                  </a:lnTo>
                  <a:lnTo>
                    <a:pt x="1149" y="368"/>
                  </a:lnTo>
                  <a:lnTo>
                    <a:pt x="1187" y="384"/>
                  </a:lnTo>
                  <a:lnTo>
                    <a:pt x="1226" y="400"/>
                  </a:lnTo>
                  <a:lnTo>
                    <a:pt x="1263" y="414"/>
                  </a:lnTo>
                  <a:lnTo>
                    <a:pt x="1302" y="427"/>
                  </a:lnTo>
                  <a:lnTo>
                    <a:pt x="1261" y="419"/>
                  </a:lnTo>
                  <a:lnTo>
                    <a:pt x="1218" y="411"/>
                  </a:lnTo>
                  <a:lnTo>
                    <a:pt x="1177" y="401"/>
                  </a:lnTo>
                  <a:lnTo>
                    <a:pt x="1135" y="390"/>
                  </a:lnTo>
                  <a:lnTo>
                    <a:pt x="1094" y="378"/>
                  </a:lnTo>
                  <a:lnTo>
                    <a:pt x="1052" y="364"/>
                  </a:lnTo>
                  <a:lnTo>
                    <a:pt x="1008" y="350"/>
                  </a:lnTo>
                  <a:lnTo>
                    <a:pt x="966" y="333"/>
                  </a:lnTo>
                  <a:lnTo>
                    <a:pt x="923" y="315"/>
                  </a:lnTo>
                  <a:lnTo>
                    <a:pt x="879" y="296"/>
                  </a:lnTo>
                  <a:lnTo>
                    <a:pt x="835" y="274"/>
                  </a:lnTo>
                  <a:lnTo>
                    <a:pt x="790" y="251"/>
                  </a:lnTo>
                  <a:lnTo>
                    <a:pt x="745" y="225"/>
                  </a:lnTo>
                  <a:lnTo>
                    <a:pt x="699" y="199"/>
                  </a:lnTo>
                  <a:lnTo>
                    <a:pt x="653" y="169"/>
                  </a:lnTo>
                  <a:lnTo>
                    <a:pt x="606" y="138"/>
                  </a:lnTo>
                  <a:lnTo>
                    <a:pt x="605" y="141"/>
                  </a:lnTo>
                  <a:lnTo>
                    <a:pt x="604" y="145"/>
                  </a:lnTo>
                  <a:lnTo>
                    <a:pt x="602" y="148"/>
                  </a:lnTo>
                  <a:lnTo>
                    <a:pt x="601" y="151"/>
                  </a:lnTo>
                  <a:lnTo>
                    <a:pt x="646" y="190"/>
                  </a:lnTo>
                  <a:lnTo>
                    <a:pt x="688" y="225"/>
                  </a:lnTo>
                  <a:lnTo>
                    <a:pt x="731" y="258"/>
                  </a:lnTo>
                  <a:lnTo>
                    <a:pt x="774" y="289"/>
                  </a:lnTo>
                  <a:lnTo>
                    <a:pt x="815" y="319"/>
                  </a:lnTo>
                  <a:lnTo>
                    <a:pt x="856" y="346"/>
                  </a:lnTo>
                  <a:lnTo>
                    <a:pt x="897" y="370"/>
                  </a:lnTo>
                  <a:lnTo>
                    <a:pt x="936" y="393"/>
                  </a:lnTo>
                  <a:lnTo>
                    <a:pt x="976" y="415"/>
                  </a:lnTo>
                  <a:lnTo>
                    <a:pt x="1016" y="435"/>
                  </a:lnTo>
                  <a:lnTo>
                    <a:pt x="1054" y="454"/>
                  </a:lnTo>
                  <a:lnTo>
                    <a:pt x="1093" y="470"/>
                  </a:lnTo>
                  <a:lnTo>
                    <a:pt x="1131" y="487"/>
                  </a:lnTo>
                  <a:lnTo>
                    <a:pt x="1169" y="502"/>
                  </a:lnTo>
                  <a:lnTo>
                    <a:pt x="1207" y="517"/>
                  </a:lnTo>
                  <a:lnTo>
                    <a:pt x="1244" y="531"/>
                  </a:lnTo>
                  <a:lnTo>
                    <a:pt x="1203" y="523"/>
                  </a:lnTo>
                  <a:lnTo>
                    <a:pt x="1162" y="514"/>
                  </a:lnTo>
                  <a:lnTo>
                    <a:pt x="1121" y="504"/>
                  </a:lnTo>
                  <a:lnTo>
                    <a:pt x="1080" y="493"/>
                  </a:lnTo>
                  <a:lnTo>
                    <a:pt x="1038" y="482"/>
                  </a:lnTo>
                  <a:lnTo>
                    <a:pt x="997" y="470"/>
                  </a:lnTo>
                  <a:lnTo>
                    <a:pt x="955" y="456"/>
                  </a:lnTo>
                  <a:lnTo>
                    <a:pt x="913" y="442"/>
                  </a:lnTo>
                  <a:lnTo>
                    <a:pt x="869" y="425"/>
                  </a:lnTo>
                  <a:lnTo>
                    <a:pt x="826" y="407"/>
                  </a:lnTo>
                  <a:lnTo>
                    <a:pt x="782" y="389"/>
                  </a:lnTo>
                  <a:lnTo>
                    <a:pt x="739" y="368"/>
                  </a:lnTo>
                  <a:lnTo>
                    <a:pt x="694" y="346"/>
                  </a:lnTo>
                  <a:lnTo>
                    <a:pt x="648" y="322"/>
                  </a:lnTo>
                  <a:lnTo>
                    <a:pt x="602" y="297"/>
                  </a:lnTo>
                  <a:lnTo>
                    <a:pt x="556" y="269"/>
                  </a:lnTo>
                  <a:lnTo>
                    <a:pt x="555" y="273"/>
                  </a:lnTo>
                  <a:lnTo>
                    <a:pt x="554" y="276"/>
                  </a:lnTo>
                  <a:lnTo>
                    <a:pt x="553" y="280"/>
                  </a:lnTo>
                  <a:lnTo>
                    <a:pt x="551" y="284"/>
                  </a:lnTo>
                  <a:lnTo>
                    <a:pt x="595" y="317"/>
                  </a:lnTo>
                  <a:lnTo>
                    <a:pt x="636" y="349"/>
                  </a:lnTo>
                  <a:lnTo>
                    <a:pt x="676" y="378"/>
                  </a:lnTo>
                  <a:lnTo>
                    <a:pt x="713" y="404"/>
                  </a:lnTo>
                  <a:lnTo>
                    <a:pt x="750" y="428"/>
                  </a:lnTo>
                  <a:lnTo>
                    <a:pt x="786" y="451"/>
                  </a:lnTo>
                  <a:lnTo>
                    <a:pt x="821" y="472"/>
                  </a:lnTo>
                  <a:lnTo>
                    <a:pt x="856" y="492"/>
                  </a:lnTo>
                  <a:lnTo>
                    <a:pt x="889" y="511"/>
                  </a:lnTo>
                  <a:lnTo>
                    <a:pt x="923" y="529"/>
                  </a:lnTo>
                  <a:lnTo>
                    <a:pt x="956" y="545"/>
                  </a:lnTo>
                  <a:lnTo>
                    <a:pt x="991" y="561"/>
                  </a:lnTo>
                  <a:lnTo>
                    <a:pt x="1025" y="576"/>
                  </a:lnTo>
                  <a:lnTo>
                    <a:pt x="1059" y="590"/>
                  </a:lnTo>
                  <a:lnTo>
                    <a:pt x="1095" y="604"/>
                  </a:lnTo>
                  <a:lnTo>
                    <a:pt x="1131" y="618"/>
                  </a:lnTo>
                  <a:lnTo>
                    <a:pt x="1092" y="610"/>
                  </a:lnTo>
                  <a:lnTo>
                    <a:pt x="1053" y="602"/>
                  </a:lnTo>
                  <a:lnTo>
                    <a:pt x="1015" y="594"/>
                  </a:lnTo>
                  <a:lnTo>
                    <a:pt x="977" y="584"/>
                  </a:lnTo>
                  <a:lnTo>
                    <a:pt x="941" y="575"/>
                  </a:lnTo>
                  <a:lnTo>
                    <a:pt x="904" y="564"/>
                  </a:lnTo>
                  <a:lnTo>
                    <a:pt x="868" y="553"/>
                  </a:lnTo>
                  <a:lnTo>
                    <a:pt x="831" y="541"/>
                  </a:lnTo>
                  <a:lnTo>
                    <a:pt x="794" y="528"/>
                  </a:lnTo>
                  <a:lnTo>
                    <a:pt x="756" y="513"/>
                  </a:lnTo>
                  <a:lnTo>
                    <a:pt x="718" y="498"/>
                  </a:lnTo>
                  <a:lnTo>
                    <a:pt x="678" y="481"/>
                  </a:lnTo>
                  <a:lnTo>
                    <a:pt x="637" y="462"/>
                  </a:lnTo>
                  <a:lnTo>
                    <a:pt x="596" y="443"/>
                  </a:lnTo>
                  <a:lnTo>
                    <a:pt x="553" y="421"/>
                  </a:lnTo>
                  <a:lnTo>
                    <a:pt x="507" y="397"/>
                  </a:lnTo>
                  <a:lnTo>
                    <a:pt x="505" y="401"/>
                  </a:lnTo>
                  <a:lnTo>
                    <a:pt x="504" y="404"/>
                  </a:lnTo>
                  <a:lnTo>
                    <a:pt x="502" y="407"/>
                  </a:lnTo>
                  <a:lnTo>
                    <a:pt x="501" y="411"/>
                  </a:lnTo>
                  <a:lnTo>
                    <a:pt x="541" y="440"/>
                  </a:lnTo>
                  <a:lnTo>
                    <a:pt x="579" y="467"/>
                  </a:lnTo>
                  <a:lnTo>
                    <a:pt x="614" y="490"/>
                  </a:lnTo>
                  <a:lnTo>
                    <a:pt x="643" y="511"/>
                  </a:lnTo>
                  <a:lnTo>
                    <a:pt x="672" y="530"/>
                  </a:lnTo>
                  <a:lnTo>
                    <a:pt x="698" y="546"/>
                  </a:lnTo>
                  <a:lnTo>
                    <a:pt x="722" y="562"/>
                  </a:lnTo>
                  <a:lnTo>
                    <a:pt x="745" y="575"/>
                  </a:lnTo>
                  <a:lnTo>
                    <a:pt x="769" y="588"/>
                  </a:lnTo>
                  <a:lnTo>
                    <a:pt x="792" y="600"/>
                  </a:lnTo>
                  <a:lnTo>
                    <a:pt x="816" y="611"/>
                  </a:lnTo>
                  <a:lnTo>
                    <a:pt x="841" y="622"/>
                  </a:lnTo>
                  <a:lnTo>
                    <a:pt x="868" y="634"/>
                  </a:lnTo>
                  <a:lnTo>
                    <a:pt x="897" y="646"/>
                  </a:lnTo>
                  <a:lnTo>
                    <a:pt x="929" y="658"/>
                  </a:lnTo>
                  <a:lnTo>
                    <a:pt x="964" y="671"/>
                  </a:lnTo>
                  <a:lnTo>
                    <a:pt x="925" y="663"/>
                  </a:lnTo>
                  <a:lnTo>
                    <a:pt x="890" y="658"/>
                  </a:lnTo>
                  <a:lnTo>
                    <a:pt x="858" y="651"/>
                  </a:lnTo>
                  <a:lnTo>
                    <a:pt x="830" y="647"/>
                  </a:lnTo>
                  <a:lnTo>
                    <a:pt x="801" y="641"/>
                  </a:lnTo>
                  <a:lnTo>
                    <a:pt x="774" y="636"/>
                  </a:lnTo>
                  <a:lnTo>
                    <a:pt x="748" y="630"/>
                  </a:lnTo>
                  <a:lnTo>
                    <a:pt x="723" y="624"/>
                  </a:lnTo>
                  <a:lnTo>
                    <a:pt x="695" y="617"/>
                  </a:lnTo>
                  <a:lnTo>
                    <a:pt x="668" y="609"/>
                  </a:lnTo>
                  <a:lnTo>
                    <a:pt x="640" y="599"/>
                  </a:lnTo>
                  <a:lnTo>
                    <a:pt x="609" y="588"/>
                  </a:lnTo>
                  <a:lnTo>
                    <a:pt x="575" y="575"/>
                  </a:lnTo>
                  <a:lnTo>
                    <a:pt x="539" y="560"/>
                  </a:lnTo>
                  <a:lnTo>
                    <a:pt x="499" y="542"/>
                  </a:lnTo>
                  <a:lnTo>
                    <a:pt x="455" y="521"/>
                  </a:lnTo>
                  <a:lnTo>
                    <a:pt x="453" y="524"/>
                  </a:lnTo>
                  <a:lnTo>
                    <a:pt x="452" y="526"/>
                  </a:lnTo>
                  <a:lnTo>
                    <a:pt x="450" y="530"/>
                  </a:lnTo>
                  <a:lnTo>
                    <a:pt x="448" y="533"/>
                  </a:lnTo>
                  <a:lnTo>
                    <a:pt x="492" y="561"/>
                  </a:lnTo>
                  <a:lnTo>
                    <a:pt x="534" y="587"/>
                  </a:lnTo>
                  <a:lnTo>
                    <a:pt x="576" y="613"/>
                  </a:lnTo>
                  <a:lnTo>
                    <a:pt x="618" y="636"/>
                  </a:lnTo>
                  <a:lnTo>
                    <a:pt x="659" y="659"/>
                  </a:lnTo>
                  <a:lnTo>
                    <a:pt x="699" y="680"/>
                  </a:lnTo>
                  <a:lnTo>
                    <a:pt x="739" y="701"/>
                  </a:lnTo>
                  <a:lnTo>
                    <a:pt x="779" y="720"/>
                  </a:lnTo>
                  <a:lnTo>
                    <a:pt x="817" y="738"/>
                  </a:lnTo>
                  <a:lnTo>
                    <a:pt x="856" y="756"/>
                  </a:lnTo>
                  <a:lnTo>
                    <a:pt x="894" y="773"/>
                  </a:lnTo>
                  <a:lnTo>
                    <a:pt x="933" y="789"/>
                  </a:lnTo>
                  <a:lnTo>
                    <a:pt x="970" y="805"/>
                  </a:lnTo>
                  <a:lnTo>
                    <a:pt x="1007" y="820"/>
                  </a:lnTo>
                  <a:lnTo>
                    <a:pt x="1044" y="834"/>
                  </a:lnTo>
                  <a:lnTo>
                    <a:pt x="1082" y="849"/>
                  </a:lnTo>
                  <a:lnTo>
                    <a:pt x="1042" y="841"/>
                  </a:lnTo>
                  <a:lnTo>
                    <a:pt x="1001" y="832"/>
                  </a:lnTo>
                  <a:lnTo>
                    <a:pt x="961" y="823"/>
                  </a:lnTo>
                  <a:lnTo>
                    <a:pt x="920" y="813"/>
                  </a:lnTo>
                  <a:lnTo>
                    <a:pt x="879" y="803"/>
                  </a:lnTo>
                  <a:lnTo>
                    <a:pt x="838" y="794"/>
                  </a:lnTo>
                  <a:lnTo>
                    <a:pt x="797" y="781"/>
                  </a:lnTo>
                  <a:lnTo>
                    <a:pt x="755" y="769"/>
                  </a:lnTo>
                  <a:lnTo>
                    <a:pt x="713" y="757"/>
                  </a:lnTo>
                  <a:lnTo>
                    <a:pt x="669" y="744"/>
                  </a:lnTo>
                  <a:lnTo>
                    <a:pt x="626" y="728"/>
                  </a:lnTo>
                  <a:lnTo>
                    <a:pt x="582" y="713"/>
                  </a:lnTo>
                  <a:lnTo>
                    <a:pt x="538" y="696"/>
                  </a:lnTo>
                  <a:lnTo>
                    <a:pt x="493" y="680"/>
                  </a:lnTo>
                  <a:lnTo>
                    <a:pt x="447" y="661"/>
                  </a:lnTo>
                  <a:lnTo>
                    <a:pt x="400" y="641"/>
                  </a:lnTo>
                  <a:lnTo>
                    <a:pt x="399" y="645"/>
                  </a:lnTo>
                  <a:lnTo>
                    <a:pt x="397" y="647"/>
                  </a:lnTo>
                  <a:lnTo>
                    <a:pt x="396" y="650"/>
                  </a:lnTo>
                  <a:lnTo>
                    <a:pt x="395" y="653"/>
                  </a:lnTo>
                  <a:lnTo>
                    <a:pt x="438" y="680"/>
                  </a:lnTo>
                  <a:lnTo>
                    <a:pt x="481" y="704"/>
                  </a:lnTo>
                  <a:lnTo>
                    <a:pt x="523" y="728"/>
                  </a:lnTo>
                  <a:lnTo>
                    <a:pt x="565" y="752"/>
                  </a:lnTo>
                  <a:lnTo>
                    <a:pt x="606" y="773"/>
                  </a:lnTo>
                  <a:lnTo>
                    <a:pt x="647" y="794"/>
                  </a:lnTo>
                  <a:lnTo>
                    <a:pt x="687" y="813"/>
                  </a:lnTo>
                  <a:lnTo>
                    <a:pt x="727" y="832"/>
                  </a:lnTo>
                  <a:lnTo>
                    <a:pt x="765" y="850"/>
                  </a:lnTo>
                  <a:lnTo>
                    <a:pt x="805" y="867"/>
                  </a:lnTo>
                  <a:lnTo>
                    <a:pt x="843" y="884"/>
                  </a:lnTo>
                  <a:lnTo>
                    <a:pt x="881" y="899"/>
                  </a:lnTo>
                  <a:lnTo>
                    <a:pt x="919" y="915"/>
                  </a:lnTo>
                  <a:lnTo>
                    <a:pt x="956" y="930"/>
                  </a:lnTo>
                  <a:lnTo>
                    <a:pt x="994" y="945"/>
                  </a:lnTo>
                  <a:lnTo>
                    <a:pt x="1031" y="959"/>
                  </a:lnTo>
                  <a:lnTo>
                    <a:pt x="991" y="951"/>
                  </a:lnTo>
                  <a:lnTo>
                    <a:pt x="951" y="943"/>
                  </a:lnTo>
                  <a:lnTo>
                    <a:pt x="910" y="935"/>
                  </a:lnTo>
                  <a:lnTo>
                    <a:pt x="869" y="925"/>
                  </a:lnTo>
                  <a:lnTo>
                    <a:pt x="828" y="916"/>
                  </a:lnTo>
                  <a:lnTo>
                    <a:pt x="787" y="906"/>
                  </a:lnTo>
                  <a:lnTo>
                    <a:pt x="745" y="895"/>
                  </a:lnTo>
                  <a:lnTo>
                    <a:pt x="703" y="883"/>
                  </a:lnTo>
                  <a:lnTo>
                    <a:pt x="661" y="871"/>
                  </a:lnTo>
                  <a:lnTo>
                    <a:pt x="617" y="858"/>
                  </a:lnTo>
                  <a:lnTo>
                    <a:pt x="574" y="844"/>
                  </a:lnTo>
                  <a:lnTo>
                    <a:pt x="529" y="829"/>
                  </a:lnTo>
                  <a:lnTo>
                    <a:pt x="484" y="813"/>
                  </a:lnTo>
                  <a:lnTo>
                    <a:pt x="438" y="797"/>
                  </a:lnTo>
                  <a:lnTo>
                    <a:pt x="391" y="778"/>
                  </a:lnTo>
                  <a:lnTo>
                    <a:pt x="344" y="759"/>
                  </a:lnTo>
                  <a:lnTo>
                    <a:pt x="343" y="763"/>
                  </a:lnTo>
                  <a:lnTo>
                    <a:pt x="342" y="765"/>
                  </a:lnTo>
                  <a:lnTo>
                    <a:pt x="339" y="768"/>
                  </a:lnTo>
                  <a:lnTo>
                    <a:pt x="338" y="771"/>
                  </a:lnTo>
                  <a:lnTo>
                    <a:pt x="383" y="797"/>
                  </a:lnTo>
                  <a:lnTo>
                    <a:pt x="426" y="821"/>
                  </a:lnTo>
                  <a:lnTo>
                    <a:pt x="468" y="844"/>
                  </a:lnTo>
                  <a:lnTo>
                    <a:pt x="510" y="866"/>
                  </a:lnTo>
                  <a:lnTo>
                    <a:pt x="553" y="888"/>
                  </a:lnTo>
                  <a:lnTo>
                    <a:pt x="594" y="908"/>
                  </a:lnTo>
                  <a:lnTo>
                    <a:pt x="635" y="927"/>
                  </a:lnTo>
                  <a:lnTo>
                    <a:pt x="674" y="946"/>
                  </a:lnTo>
                  <a:lnTo>
                    <a:pt x="714" y="963"/>
                  </a:lnTo>
                  <a:lnTo>
                    <a:pt x="753" y="980"/>
                  </a:lnTo>
                  <a:lnTo>
                    <a:pt x="792" y="997"/>
                  </a:lnTo>
                  <a:lnTo>
                    <a:pt x="831" y="1012"/>
                  </a:lnTo>
                  <a:lnTo>
                    <a:pt x="868" y="1027"/>
                  </a:lnTo>
                  <a:lnTo>
                    <a:pt x="907" y="1042"/>
                  </a:lnTo>
                  <a:lnTo>
                    <a:pt x="944" y="1056"/>
                  </a:lnTo>
                  <a:lnTo>
                    <a:pt x="981" y="1070"/>
                  </a:lnTo>
                  <a:lnTo>
                    <a:pt x="941" y="1063"/>
                  </a:lnTo>
                  <a:lnTo>
                    <a:pt x="900" y="1055"/>
                  </a:lnTo>
                  <a:lnTo>
                    <a:pt x="861" y="1047"/>
                  </a:lnTo>
                  <a:lnTo>
                    <a:pt x="820" y="1038"/>
                  </a:lnTo>
                  <a:lnTo>
                    <a:pt x="777" y="1030"/>
                  </a:lnTo>
                  <a:lnTo>
                    <a:pt x="736" y="1020"/>
                  </a:lnTo>
                  <a:lnTo>
                    <a:pt x="694" y="1009"/>
                  </a:lnTo>
                  <a:lnTo>
                    <a:pt x="652" y="998"/>
                  </a:lnTo>
                  <a:lnTo>
                    <a:pt x="609" y="987"/>
                  </a:lnTo>
                  <a:lnTo>
                    <a:pt x="564" y="973"/>
                  </a:lnTo>
                  <a:lnTo>
                    <a:pt x="519" y="960"/>
                  </a:lnTo>
                  <a:lnTo>
                    <a:pt x="474" y="945"/>
                  </a:lnTo>
                  <a:lnTo>
                    <a:pt x="428" y="929"/>
                  </a:lnTo>
                  <a:lnTo>
                    <a:pt x="381" y="913"/>
                  </a:lnTo>
                  <a:lnTo>
                    <a:pt x="333" y="894"/>
                  </a:lnTo>
                  <a:lnTo>
                    <a:pt x="284" y="875"/>
                  </a:lnTo>
                  <a:lnTo>
                    <a:pt x="283" y="879"/>
                  </a:lnTo>
                  <a:lnTo>
                    <a:pt x="282" y="881"/>
                  </a:lnTo>
                  <a:lnTo>
                    <a:pt x="279" y="884"/>
                  </a:lnTo>
                  <a:lnTo>
                    <a:pt x="278" y="887"/>
                  </a:lnTo>
                  <a:lnTo>
                    <a:pt x="324" y="913"/>
                  </a:lnTo>
                  <a:lnTo>
                    <a:pt x="369" y="937"/>
                  </a:lnTo>
                  <a:lnTo>
                    <a:pt x="412" y="961"/>
                  </a:lnTo>
                  <a:lnTo>
                    <a:pt x="456" y="983"/>
                  </a:lnTo>
                  <a:lnTo>
                    <a:pt x="498" y="1004"/>
                  </a:lnTo>
                  <a:lnTo>
                    <a:pt x="540" y="1024"/>
                  </a:lnTo>
                  <a:lnTo>
                    <a:pt x="581" y="1044"/>
                  </a:lnTo>
                  <a:lnTo>
                    <a:pt x="622" y="1062"/>
                  </a:lnTo>
                  <a:lnTo>
                    <a:pt x="663" y="1079"/>
                  </a:lnTo>
                  <a:lnTo>
                    <a:pt x="703" y="1096"/>
                  </a:lnTo>
                  <a:lnTo>
                    <a:pt x="741" y="1112"/>
                  </a:lnTo>
                  <a:lnTo>
                    <a:pt x="781" y="1128"/>
                  </a:lnTo>
                  <a:lnTo>
                    <a:pt x="820" y="1143"/>
                  </a:lnTo>
                  <a:lnTo>
                    <a:pt x="858" y="1158"/>
                  </a:lnTo>
                  <a:lnTo>
                    <a:pt x="897" y="1172"/>
                  </a:lnTo>
                  <a:lnTo>
                    <a:pt x="934" y="1185"/>
                  </a:lnTo>
                  <a:lnTo>
                    <a:pt x="893" y="1179"/>
                  </a:lnTo>
                  <a:lnTo>
                    <a:pt x="853" y="1171"/>
                  </a:lnTo>
                  <a:lnTo>
                    <a:pt x="812" y="1163"/>
                  </a:lnTo>
                  <a:lnTo>
                    <a:pt x="770" y="1154"/>
                  </a:lnTo>
                  <a:lnTo>
                    <a:pt x="729" y="1146"/>
                  </a:lnTo>
                  <a:lnTo>
                    <a:pt x="686" y="1137"/>
                  </a:lnTo>
                  <a:lnTo>
                    <a:pt x="643" y="1127"/>
                  </a:lnTo>
                  <a:lnTo>
                    <a:pt x="600" y="1116"/>
                  </a:lnTo>
                  <a:lnTo>
                    <a:pt x="555" y="1104"/>
                  </a:lnTo>
                  <a:lnTo>
                    <a:pt x="510" y="1090"/>
                  </a:lnTo>
                  <a:lnTo>
                    <a:pt x="464" y="1077"/>
                  </a:lnTo>
                  <a:lnTo>
                    <a:pt x="419" y="1062"/>
                  </a:lnTo>
                  <a:lnTo>
                    <a:pt x="370" y="1046"/>
                  </a:lnTo>
                  <a:lnTo>
                    <a:pt x="322" y="1029"/>
                  </a:lnTo>
                  <a:lnTo>
                    <a:pt x="273" y="1010"/>
                  </a:lnTo>
                  <a:lnTo>
                    <a:pt x="222" y="990"/>
                  </a:lnTo>
                  <a:lnTo>
                    <a:pt x="221" y="993"/>
                  </a:lnTo>
                  <a:lnTo>
                    <a:pt x="219" y="995"/>
                  </a:lnTo>
                  <a:lnTo>
                    <a:pt x="217" y="999"/>
                  </a:lnTo>
                  <a:lnTo>
                    <a:pt x="215" y="1001"/>
                  </a:lnTo>
                  <a:lnTo>
                    <a:pt x="262" y="1027"/>
                  </a:lnTo>
                  <a:lnTo>
                    <a:pt x="308" y="1053"/>
                  </a:lnTo>
                  <a:lnTo>
                    <a:pt x="354" y="1077"/>
                  </a:lnTo>
                  <a:lnTo>
                    <a:pt x="399" y="1100"/>
                  </a:lnTo>
                  <a:lnTo>
                    <a:pt x="443" y="1122"/>
                  </a:lnTo>
                  <a:lnTo>
                    <a:pt x="486" y="1143"/>
                  </a:lnTo>
                  <a:lnTo>
                    <a:pt x="529" y="1163"/>
                  </a:lnTo>
                  <a:lnTo>
                    <a:pt x="570" y="1181"/>
                  </a:lnTo>
                  <a:lnTo>
                    <a:pt x="612" y="1200"/>
                  </a:lnTo>
                  <a:lnTo>
                    <a:pt x="652" y="1216"/>
                  </a:lnTo>
                  <a:lnTo>
                    <a:pt x="693" y="1232"/>
                  </a:lnTo>
                  <a:lnTo>
                    <a:pt x="733" y="1247"/>
                  </a:lnTo>
                  <a:lnTo>
                    <a:pt x="772" y="1262"/>
                  </a:lnTo>
                  <a:lnTo>
                    <a:pt x="811" y="1276"/>
                  </a:lnTo>
                  <a:lnTo>
                    <a:pt x="849" y="1289"/>
                  </a:lnTo>
                  <a:lnTo>
                    <a:pt x="888" y="1302"/>
                  </a:lnTo>
                  <a:lnTo>
                    <a:pt x="847" y="1296"/>
                  </a:lnTo>
                  <a:lnTo>
                    <a:pt x="806" y="1289"/>
                  </a:lnTo>
                  <a:lnTo>
                    <a:pt x="764" y="1282"/>
                  </a:lnTo>
                  <a:lnTo>
                    <a:pt x="722" y="1275"/>
                  </a:lnTo>
                  <a:lnTo>
                    <a:pt x="679" y="1267"/>
                  </a:lnTo>
                  <a:lnTo>
                    <a:pt x="636" y="1257"/>
                  </a:lnTo>
                  <a:lnTo>
                    <a:pt x="592" y="1247"/>
                  </a:lnTo>
                  <a:lnTo>
                    <a:pt x="548" y="1236"/>
                  </a:lnTo>
                  <a:lnTo>
                    <a:pt x="502" y="1225"/>
                  </a:lnTo>
                  <a:lnTo>
                    <a:pt x="456" y="1212"/>
                  </a:lnTo>
                  <a:lnTo>
                    <a:pt x="409" y="1197"/>
                  </a:lnTo>
                  <a:lnTo>
                    <a:pt x="360" y="1181"/>
                  </a:lnTo>
                  <a:lnTo>
                    <a:pt x="311" y="1164"/>
                  </a:lnTo>
                  <a:lnTo>
                    <a:pt x="260" y="1146"/>
                  </a:lnTo>
                  <a:lnTo>
                    <a:pt x="209" y="1126"/>
                  </a:lnTo>
                  <a:lnTo>
                    <a:pt x="155" y="1104"/>
                  </a:lnTo>
                  <a:lnTo>
                    <a:pt x="154" y="1107"/>
                  </a:lnTo>
                  <a:lnTo>
                    <a:pt x="153" y="1109"/>
                  </a:lnTo>
                  <a:lnTo>
                    <a:pt x="150" y="1112"/>
                  </a:lnTo>
                  <a:lnTo>
                    <a:pt x="149" y="1116"/>
                  </a:lnTo>
                  <a:lnTo>
                    <a:pt x="199" y="1144"/>
                  </a:lnTo>
                  <a:lnTo>
                    <a:pt x="247" y="1171"/>
                  </a:lnTo>
                  <a:lnTo>
                    <a:pt x="294" y="1197"/>
                  </a:lnTo>
                  <a:lnTo>
                    <a:pt x="340" y="1221"/>
                  </a:lnTo>
                  <a:lnTo>
                    <a:pt x="386" y="1244"/>
                  </a:lnTo>
                  <a:lnTo>
                    <a:pt x="431" y="1265"/>
                  </a:lnTo>
                  <a:lnTo>
                    <a:pt x="474" y="1286"/>
                  </a:lnTo>
                  <a:lnTo>
                    <a:pt x="518" y="1304"/>
                  </a:lnTo>
                  <a:lnTo>
                    <a:pt x="560" y="1322"/>
                  </a:lnTo>
                  <a:lnTo>
                    <a:pt x="602" y="1340"/>
                  </a:lnTo>
                  <a:lnTo>
                    <a:pt x="643" y="1355"/>
                  </a:lnTo>
                  <a:lnTo>
                    <a:pt x="684" y="1371"/>
                  </a:lnTo>
                  <a:lnTo>
                    <a:pt x="725" y="1385"/>
                  </a:lnTo>
                  <a:lnTo>
                    <a:pt x="765" y="1398"/>
                  </a:lnTo>
                  <a:lnTo>
                    <a:pt x="805" y="1411"/>
                  </a:lnTo>
                  <a:lnTo>
                    <a:pt x="843" y="1424"/>
                  </a:lnTo>
                  <a:lnTo>
                    <a:pt x="801" y="1418"/>
                  </a:lnTo>
                  <a:lnTo>
                    <a:pt x="760" y="1413"/>
                  </a:lnTo>
                  <a:lnTo>
                    <a:pt x="717" y="1406"/>
                  </a:lnTo>
                  <a:lnTo>
                    <a:pt x="674" y="1399"/>
                  </a:lnTo>
                  <a:lnTo>
                    <a:pt x="631" y="1391"/>
                  </a:lnTo>
                  <a:lnTo>
                    <a:pt x="586" y="1382"/>
                  </a:lnTo>
                  <a:lnTo>
                    <a:pt x="540" y="1372"/>
                  </a:lnTo>
                  <a:lnTo>
                    <a:pt x="494" y="1361"/>
                  </a:lnTo>
                  <a:lnTo>
                    <a:pt x="448" y="1349"/>
                  </a:lnTo>
                  <a:lnTo>
                    <a:pt x="400" y="1335"/>
                  </a:lnTo>
                  <a:lnTo>
                    <a:pt x="350" y="1320"/>
                  </a:lnTo>
                  <a:lnTo>
                    <a:pt x="301" y="1303"/>
                  </a:lnTo>
                  <a:lnTo>
                    <a:pt x="248" y="1286"/>
                  </a:lnTo>
                  <a:lnTo>
                    <a:pt x="196" y="1266"/>
                  </a:lnTo>
                  <a:lnTo>
                    <a:pt x="142" y="1244"/>
                  </a:lnTo>
                  <a:lnTo>
                    <a:pt x="86" y="1219"/>
                  </a:lnTo>
                  <a:lnTo>
                    <a:pt x="84" y="1222"/>
                  </a:lnTo>
                  <a:lnTo>
                    <a:pt x="82" y="1225"/>
                  </a:lnTo>
                  <a:lnTo>
                    <a:pt x="81" y="1228"/>
                  </a:lnTo>
                  <a:lnTo>
                    <a:pt x="78" y="1230"/>
                  </a:lnTo>
                  <a:lnTo>
                    <a:pt x="130" y="1261"/>
                  </a:lnTo>
                  <a:lnTo>
                    <a:pt x="181" y="1291"/>
                  </a:lnTo>
                  <a:lnTo>
                    <a:pt x="231" y="1318"/>
                  </a:lnTo>
                  <a:lnTo>
                    <a:pt x="281" y="1344"/>
                  </a:lnTo>
                  <a:lnTo>
                    <a:pt x="328" y="1367"/>
                  </a:lnTo>
                  <a:lnTo>
                    <a:pt x="375" y="1391"/>
                  </a:lnTo>
                  <a:lnTo>
                    <a:pt x="421" y="1411"/>
                  </a:lnTo>
                  <a:lnTo>
                    <a:pt x="466" y="1430"/>
                  </a:lnTo>
                  <a:lnTo>
                    <a:pt x="510" y="1449"/>
                  </a:lnTo>
                  <a:lnTo>
                    <a:pt x="554" y="1466"/>
                  </a:lnTo>
                  <a:lnTo>
                    <a:pt x="596" y="1481"/>
                  </a:lnTo>
                  <a:lnTo>
                    <a:pt x="638" y="1496"/>
                  </a:lnTo>
                  <a:lnTo>
                    <a:pt x="679" y="1510"/>
                  </a:lnTo>
                  <a:lnTo>
                    <a:pt x="720" y="1523"/>
                  </a:lnTo>
                  <a:lnTo>
                    <a:pt x="761" y="1535"/>
                  </a:lnTo>
                  <a:lnTo>
                    <a:pt x="801" y="1546"/>
                  </a:lnTo>
                  <a:lnTo>
                    <a:pt x="759" y="1542"/>
                  </a:lnTo>
                  <a:lnTo>
                    <a:pt x="715" y="1537"/>
                  </a:lnTo>
                  <a:lnTo>
                    <a:pt x="672" y="1532"/>
                  </a:lnTo>
                  <a:lnTo>
                    <a:pt x="627" y="1526"/>
                  </a:lnTo>
                  <a:lnTo>
                    <a:pt x="582" y="1519"/>
                  </a:lnTo>
                  <a:lnTo>
                    <a:pt x="537" y="1511"/>
                  </a:lnTo>
                  <a:lnTo>
                    <a:pt x="489" y="1501"/>
                  </a:lnTo>
                  <a:lnTo>
                    <a:pt x="442" y="1490"/>
                  </a:lnTo>
                  <a:lnTo>
                    <a:pt x="392" y="1477"/>
                  </a:lnTo>
                  <a:lnTo>
                    <a:pt x="343" y="1462"/>
                  </a:lnTo>
                  <a:lnTo>
                    <a:pt x="292" y="1447"/>
                  </a:lnTo>
                  <a:lnTo>
                    <a:pt x="238" y="1429"/>
                  </a:lnTo>
                  <a:lnTo>
                    <a:pt x="184" y="1409"/>
                  </a:lnTo>
                  <a:lnTo>
                    <a:pt x="128" y="1387"/>
                  </a:lnTo>
                  <a:lnTo>
                    <a:pt x="71" y="1362"/>
                  </a:lnTo>
                  <a:lnTo>
                    <a:pt x="11" y="1335"/>
                  </a:lnTo>
                  <a:lnTo>
                    <a:pt x="9" y="1340"/>
                  </a:lnTo>
                  <a:lnTo>
                    <a:pt x="6" y="1343"/>
                  </a:lnTo>
                  <a:lnTo>
                    <a:pt x="3" y="1346"/>
                  </a:lnTo>
                  <a:lnTo>
                    <a:pt x="0" y="1351"/>
                  </a:lnTo>
                  <a:lnTo>
                    <a:pt x="83" y="1395"/>
                  </a:lnTo>
                  <a:lnTo>
                    <a:pt x="163" y="1434"/>
                  </a:lnTo>
                  <a:lnTo>
                    <a:pt x="240" y="1469"/>
                  </a:lnTo>
                  <a:lnTo>
                    <a:pt x="314" y="1500"/>
                  </a:lnTo>
                  <a:lnTo>
                    <a:pt x="386" y="1526"/>
                  </a:lnTo>
                  <a:lnTo>
                    <a:pt x="456" y="1549"/>
                  </a:lnTo>
                  <a:lnTo>
                    <a:pt x="524" y="1570"/>
                  </a:lnTo>
                  <a:lnTo>
                    <a:pt x="589" y="1588"/>
                  </a:lnTo>
                  <a:lnTo>
                    <a:pt x="652" y="1603"/>
                  </a:lnTo>
                  <a:lnTo>
                    <a:pt x="714" y="1616"/>
                  </a:lnTo>
                  <a:lnTo>
                    <a:pt x="774" y="1627"/>
                  </a:lnTo>
                  <a:lnTo>
                    <a:pt x="832" y="1637"/>
                  </a:lnTo>
                  <a:lnTo>
                    <a:pt x="888" y="1644"/>
                  </a:lnTo>
                  <a:lnTo>
                    <a:pt x="944" y="1651"/>
                  </a:lnTo>
                  <a:lnTo>
                    <a:pt x="997" y="1658"/>
                  </a:lnTo>
                  <a:lnTo>
                    <a:pt x="1051" y="1664"/>
                  </a:lnTo>
                  <a:lnTo>
                    <a:pt x="1103" y="1670"/>
                  </a:lnTo>
                  <a:lnTo>
                    <a:pt x="1155" y="1676"/>
                  </a:lnTo>
                  <a:lnTo>
                    <a:pt x="1205" y="1683"/>
                  </a:lnTo>
                  <a:lnTo>
                    <a:pt x="1256" y="1691"/>
                  </a:lnTo>
                  <a:lnTo>
                    <a:pt x="1305" y="1700"/>
                  </a:lnTo>
                  <a:lnTo>
                    <a:pt x="1355" y="1711"/>
                  </a:lnTo>
                  <a:lnTo>
                    <a:pt x="1403" y="1723"/>
                  </a:lnTo>
                  <a:lnTo>
                    <a:pt x="1453" y="1737"/>
                  </a:lnTo>
                  <a:lnTo>
                    <a:pt x="1503" y="1755"/>
                  </a:lnTo>
                  <a:lnTo>
                    <a:pt x="1552" y="1775"/>
                  </a:lnTo>
                  <a:lnTo>
                    <a:pt x="1602" y="1797"/>
                  </a:lnTo>
                  <a:lnTo>
                    <a:pt x="1652" y="1823"/>
                  </a:lnTo>
                  <a:lnTo>
                    <a:pt x="1704" y="1853"/>
                  </a:lnTo>
                  <a:lnTo>
                    <a:pt x="1755" y="1887"/>
                  </a:lnTo>
                  <a:lnTo>
                    <a:pt x="1808" y="1925"/>
                  </a:lnTo>
                  <a:lnTo>
                    <a:pt x="1862" y="1968"/>
                  </a:lnTo>
                  <a:lnTo>
                    <a:pt x="1871" y="1883"/>
                  </a:lnTo>
                  <a:lnTo>
                    <a:pt x="1885" y="1800"/>
                  </a:lnTo>
                  <a:lnTo>
                    <a:pt x="1901" y="1718"/>
                  </a:lnTo>
                  <a:lnTo>
                    <a:pt x="1921" y="1639"/>
                  </a:lnTo>
                  <a:lnTo>
                    <a:pt x="1943" y="1562"/>
                  </a:lnTo>
                  <a:lnTo>
                    <a:pt x="1970" y="1485"/>
                  </a:lnTo>
                  <a:lnTo>
                    <a:pt x="1999" y="1411"/>
                  </a:lnTo>
                  <a:lnTo>
                    <a:pt x="2033" y="1340"/>
                  </a:lnTo>
                  <a:lnTo>
                    <a:pt x="2069" y="1269"/>
                  </a:lnTo>
                  <a:lnTo>
                    <a:pt x="2107" y="1201"/>
                  </a:lnTo>
                  <a:lnTo>
                    <a:pt x="2151" y="1134"/>
                  </a:lnTo>
                  <a:lnTo>
                    <a:pt x="2197" y="1070"/>
                  </a:lnTo>
                  <a:lnTo>
                    <a:pt x="2245" y="1009"/>
                  </a:lnTo>
                  <a:lnTo>
                    <a:pt x="2297" y="948"/>
                  </a:lnTo>
                  <a:lnTo>
                    <a:pt x="2353" y="891"/>
                  </a:lnTo>
                  <a:lnTo>
                    <a:pt x="2413" y="834"/>
                  </a:lnTo>
                  <a:lnTo>
                    <a:pt x="2363" y="779"/>
                  </a:lnTo>
                  <a:lnTo>
                    <a:pt x="2312" y="731"/>
                  </a:lnTo>
                  <a:lnTo>
                    <a:pt x="2263" y="688"/>
                  </a:lnTo>
                  <a:lnTo>
                    <a:pt x="2213" y="649"/>
                  </a:lnTo>
                  <a:lnTo>
                    <a:pt x="2163" y="615"/>
                  </a:lnTo>
                  <a:lnTo>
                    <a:pt x="2114" y="585"/>
                  </a:lnTo>
                  <a:lnTo>
                    <a:pt x="2064" y="558"/>
                  </a:lnTo>
                  <a:lnTo>
                    <a:pt x="2014" y="536"/>
                  </a:lnTo>
                  <a:lnTo>
                    <a:pt x="1963" y="517"/>
                  </a:lnTo>
                  <a:lnTo>
                    <a:pt x="1914" y="500"/>
                  </a:lnTo>
                  <a:lnTo>
                    <a:pt x="1863" y="486"/>
                  </a:lnTo>
                  <a:lnTo>
                    <a:pt x="1812" y="472"/>
                  </a:lnTo>
                  <a:lnTo>
                    <a:pt x="1760" y="461"/>
                  </a:lnTo>
                  <a:lnTo>
                    <a:pt x="1709" y="450"/>
                  </a:lnTo>
                  <a:lnTo>
                    <a:pt x="1657" y="442"/>
                  </a:lnTo>
                  <a:lnTo>
                    <a:pt x="1603" y="432"/>
                  </a:lnTo>
                  <a:lnTo>
                    <a:pt x="1550" y="423"/>
                  </a:lnTo>
                  <a:lnTo>
                    <a:pt x="1496" y="413"/>
                  </a:lnTo>
                  <a:lnTo>
                    <a:pt x="1442" y="402"/>
                  </a:lnTo>
                  <a:lnTo>
                    <a:pt x="1387" y="390"/>
                  </a:lnTo>
                  <a:lnTo>
                    <a:pt x="1331" y="375"/>
                  </a:lnTo>
                  <a:lnTo>
                    <a:pt x="1274" y="360"/>
                  </a:lnTo>
                  <a:lnTo>
                    <a:pt x="1217" y="341"/>
                  </a:lnTo>
                  <a:lnTo>
                    <a:pt x="1159" y="320"/>
                  </a:lnTo>
                  <a:lnTo>
                    <a:pt x="1099" y="296"/>
                  </a:lnTo>
                  <a:lnTo>
                    <a:pt x="1038" y="267"/>
                  </a:lnTo>
                  <a:lnTo>
                    <a:pt x="977" y="235"/>
                  </a:lnTo>
                  <a:lnTo>
                    <a:pt x="915" y="199"/>
                  </a:lnTo>
                  <a:lnTo>
                    <a:pt x="852" y="157"/>
                  </a:lnTo>
                  <a:lnTo>
                    <a:pt x="787" y="110"/>
                  </a:lnTo>
                  <a:lnTo>
                    <a:pt x="722" y="59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3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4210560" y="2460600"/>
              <a:ext cx="1128240" cy="1182600"/>
            </a:xfrm>
            <a:custGeom>
              <a:avLst/>
              <a:gdLst/>
              <a:ahLst/>
              <a:rect l="l" t="t" r="r" b="b"/>
              <a:pathLst>
                <a:path w="760" h="745">
                  <a:moveTo>
                    <a:pt x="760" y="0"/>
                  </a:moveTo>
                  <a:lnTo>
                    <a:pt x="0" y="0"/>
                  </a:lnTo>
                  <a:lnTo>
                    <a:pt x="0" y="688"/>
                  </a:lnTo>
                  <a:lnTo>
                    <a:pt x="223" y="688"/>
                  </a:lnTo>
                  <a:lnTo>
                    <a:pt x="278" y="745"/>
                  </a:lnTo>
                  <a:lnTo>
                    <a:pt x="490" y="745"/>
                  </a:lnTo>
                  <a:lnTo>
                    <a:pt x="550" y="688"/>
                  </a:lnTo>
                  <a:lnTo>
                    <a:pt x="760" y="688"/>
                  </a:lnTo>
                  <a:lnTo>
                    <a:pt x="7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4274280" y="2522520"/>
              <a:ext cx="1000440" cy="1060560"/>
            </a:xfrm>
            <a:custGeom>
              <a:avLst/>
              <a:gdLst/>
              <a:ahLst/>
              <a:rect l="l" t="t" r="r" b="b"/>
              <a:pathLst>
                <a:path w="674" h="668">
                  <a:moveTo>
                    <a:pt x="428" y="668"/>
                  </a:moveTo>
                  <a:lnTo>
                    <a:pt x="255" y="668"/>
                  </a:lnTo>
                  <a:lnTo>
                    <a:pt x="200" y="610"/>
                  </a:lnTo>
                  <a:lnTo>
                    <a:pt x="0" y="610"/>
                  </a:lnTo>
                  <a:lnTo>
                    <a:pt x="0" y="0"/>
                  </a:lnTo>
                  <a:lnTo>
                    <a:pt x="674" y="0"/>
                  </a:lnTo>
                  <a:lnTo>
                    <a:pt x="674" y="610"/>
                  </a:lnTo>
                  <a:lnTo>
                    <a:pt x="488" y="610"/>
                  </a:lnTo>
                  <a:lnTo>
                    <a:pt x="428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30"/>
            <p:cNvSpPr/>
            <p:nvPr/>
          </p:nvSpPr>
          <p:spPr>
            <a:xfrm>
              <a:off x="4382640" y="2629080"/>
              <a:ext cx="795960" cy="72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1"/>
            <p:cNvSpPr/>
            <p:nvPr/>
          </p:nvSpPr>
          <p:spPr>
            <a:xfrm>
              <a:off x="4011480" y="3703680"/>
              <a:ext cx="14904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2"/>
            <p:cNvSpPr/>
            <p:nvPr/>
          </p:nvSpPr>
          <p:spPr>
            <a:xfrm>
              <a:off x="4075200" y="3763800"/>
              <a:ext cx="13644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3"/>
            <p:cNvSpPr/>
            <p:nvPr/>
          </p:nvSpPr>
          <p:spPr>
            <a:xfrm>
              <a:off x="4915800" y="3879720"/>
              <a:ext cx="39492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4"/>
            <p:cNvSpPr/>
            <p:nvPr/>
          </p:nvSpPr>
          <p:spPr>
            <a:xfrm>
              <a:off x="4708080" y="3470400"/>
              <a:ext cx="14400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3435480" y="3027240"/>
              <a:ext cx="794160" cy="1158840"/>
            </a:xfrm>
            <a:custGeom>
              <a:avLst/>
              <a:gdLst/>
              <a:ahLst/>
              <a:rect l="l" t="t" r="r" b="b"/>
              <a:pathLst>
                <a:path w="535" h="730">
                  <a:moveTo>
                    <a:pt x="128" y="410"/>
                  </a:moveTo>
                  <a:lnTo>
                    <a:pt x="102" y="417"/>
                  </a:lnTo>
                  <a:lnTo>
                    <a:pt x="77" y="428"/>
                  </a:lnTo>
                  <a:lnTo>
                    <a:pt x="56" y="444"/>
                  </a:lnTo>
                  <a:lnTo>
                    <a:pt x="37" y="463"/>
                  </a:lnTo>
                  <a:lnTo>
                    <a:pt x="21" y="485"/>
                  </a:lnTo>
                  <a:lnTo>
                    <a:pt x="10" y="512"/>
                  </a:lnTo>
                  <a:lnTo>
                    <a:pt x="3" y="540"/>
                  </a:lnTo>
                  <a:lnTo>
                    <a:pt x="0" y="569"/>
                  </a:lnTo>
                  <a:lnTo>
                    <a:pt x="1" y="587"/>
                  </a:lnTo>
                  <a:lnTo>
                    <a:pt x="4" y="605"/>
                  </a:lnTo>
                  <a:lnTo>
                    <a:pt x="9" y="622"/>
                  </a:lnTo>
                  <a:lnTo>
                    <a:pt x="15" y="638"/>
                  </a:lnTo>
                  <a:lnTo>
                    <a:pt x="22" y="654"/>
                  </a:lnTo>
                  <a:lnTo>
                    <a:pt x="31" y="669"/>
                  </a:lnTo>
                  <a:lnTo>
                    <a:pt x="42" y="682"/>
                  </a:lnTo>
                  <a:lnTo>
                    <a:pt x="55" y="694"/>
                  </a:lnTo>
                  <a:lnTo>
                    <a:pt x="65" y="702"/>
                  </a:lnTo>
                  <a:lnTo>
                    <a:pt x="76" y="709"/>
                  </a:lnTo>
                  <a:lnTo>
                    <a:pt x="87" y="716"/>
                  </a:lnTo>
                  <a:lnTo>
                    <a:pt x="98" y="720"/>
                  </a:lnTo>
                  <a:lnTo>
                    <a:pt x="109" y="725"/>
                  </a:lnTo>
                  <a:lnTo>
                    <a:pt x="122" y="728"/>
                  </a:lnTo>
                  <a:lnTo>
                    <a:pt x="134" y="729"/>
                  </a:lnTo>
                  <a:lnTo>
                    <a:pt x="147" y="730"/>
                  </a:lnTo>
                  <a:lnTo>
                    <a:pt x="159" y="729"/>
                  </a:lnTo>
                  <a:lnTo>
                    <a:pt x="173" y="728"/>
                  </a:lnTo>
                  <a:lnTo>
                    <a:pt x="184" y="725"/>
                  </a:lnTo>
                  <a:lnTo>
                    <a:pt x="196" y="720"/>
                  </a:lnTo>
                  <a:lnTo>
                    <a:pt x="207" y="716"/>
                  </a:lnTo>
                  <a:lnTo>
                    <a:pt x="219" y="709"/>
                  </a:lnTo>
                  <a:lnTo>
                    <a:pt x="230" y="702"/>
                  </a:lnTo>
                  <a:lnTo>
                    <a:pt x="240" y="694"/>
                  </a:lnTo>
                  <a:lnTo>
                    <a:pt x="252" y="682"/>
                  </a:lnTo>
                  <a:lnTo>
                    <a:pt x="263" y="669"/>
                  </a:lnTo>
                  <a:lnTo>
                    <a:pt x="272" y="654"/>
                  </a:lnTo>
                  <a:lnTo>
                    <a:pt x="281" y="638"/>
                  </a:lnTo>
                  <a:lnTo>
                    <a:pt x="286" y="622"/>
                  </a:lnTo>
                  <a:lnTo>
                    <a:pt x="291" y="605"/>
                  </a:lnTo>
                  <a:lnTo>
                    <a:pt x="293" y="587"/>
                  </a:lnTo>
                  <a:lnTo>
                    <a:pt x="294" y="569"/>
                  </a:lnTo>
                  <a:lnTo>
                    <a:pt x="293" y="552"/>
                  </a:lnTo>
                  <a:lnTo>
                    <a:pt x="291" y="534"/>
                  </a:lnTo>
                  <a:lnTo>
                    <a:pt x="286" y="516"/>
                  </a:lnTo>
                  <a:lnTo>
                    <a:pt x="281" y="500"/>
                  </a:lnTo>
                  <a:lnTo>
                    <a:pt x="272" y="484"/>
                  </a:lnTo>
                  <a:lnTo>
                    <a:pt x="263" y="470"/>
                  </a:lnTo>
                  <a:lnTo>
                    <a:pt x="252" y="457"/>
                  </a:lnTo>
                  <a:lnTo>
                    <a:pt x="240" y="445"/>
                  </a:lnTo>
                  <a:lnTo>
                    <a:pt x="232" y="438"/>
                  </a:lnTo>
                  <a:lnTo>
                    <a:pt x="224" y="432"/>
                  </a:lnTo>
                  <a:lnTo>
                    <a:pt x="216" y="427"/>
                  </a:lnTo>
                  <a:lnTo>
                    <a:pt x="207" y="423"/>
                  </a:lnTo>
                  <a:lnTo>
                    <a:pt x="199" y="418"/>
                  </a:lnTo>
                  <a:lnTo>
                    <a:pt x="189" y="415"/>
                  </a:lnTo>
                  <a:lnTo>
                    <a:pt x="180" y="413"/>
                  </a:lnTo>
                  <a:lnTo>
                    <a:pt x="170" y="410"/>
                  </a:lnTo>
                  <a:lnTo>
                    <a:pt x="174" y="372"/>
                  </a:lnTo>
                  <a:lnTo>
                    <a:pt x="183" y="334"/>
                  </a:lnTo>
                  <a:lnTo>
                    <a:pt x="195" y="296"/>
                  </a:lnTo>
                  <a:lnTo>
                    <a:pt x="211" y="259"/>
                  </a:lnTo>
                  <a:lnTo>
                    <a:pt x="232" y="223"/>
                  </a:lnTo>
                  <a:lnTo>
                    <a:pt x="255" y="190"/>
                  </a:lnTo>
                  <a:lnTo>
                    <a:pt x="282" y="158"/>
                  </a:lnTo>
                  <a:lnTo>
                    <a:pt x="312" y="129"/>
                  </a:lnTo>
                  <a:lnTo>
                    <a:pt x="320" y="121"/>
                  </a:lnTo>
                  <a:lnTo>
                    <a:pt x="330" y="114"/>
                  </a:lnTo>
                  <a:lnTo>
                    <a:pt x="340" y="105"/>
                  </a:lnTo>
                  <a:lnTo>
                    <a:pt x="352" y="97"/>
                  </a:lnTo>
                  <a:lnTo>
                    <a:pt x="364" y="89"/>
                  </a:lnTo>
                  <a:lnTo>
                    <a:pt x="376" y="82"/>
                  </a:lnTo>
                  <a:lnTo>
                    <a:pt x="389" y="75"/>
                  </a:lnTo>
                  <a:lnTo>
                    <a:pt x="404" y="68"/>
                  </a:lnTo>
                  <a:lnTo>
                    <a:pt x="417" y="62"/>
                  </a:lnTo>
                  <a:lnTo>
                    <a:pt x="432" y="56"/>
                  </a:lnTo>
                  <a:lnTo>
                    <a:pt x="448" y="51"/>
                  </a:lnTo>
                  <a:lnTo>
                    <a:pt x="465" y="46"/>
                  </a:lnTo>
                  <a:lnTo>
                    <a:pt x="481" y="43"/>
                  </a:lnTo>
                  <a:lnTo>
                    <a:pt x="499" y="41"/>
                  </a:lnTo>
                  <a:lnTo>
                    <a:pt x="517" y="40"/>
                  </a:lnTo>
                  <a:lnTo>
                    <a:pt x="535" y="39"/>
                  </a:lnTo>
                  <a:lnTo>
                    <a:pt x="535" y="0"/>
                  </a:lnTo>
                  <a:lnTo>
                    <a:pt x="493" y="2"/>
                  </a:lnTo>
                  <a:lnTo>
                    <a:pt x="453" y="10"/>
                  </a:lnTo>
                  <a:lnTo>
                    <a:pt x="414" y="21"/>
                  </a:lnTo>
                  <a:lnTo>
                    <a:pt x="378" y="36"/>
                  </a:lnTo>
                  <a:lnTo>
                    <a:pt x="342" y="55"/>
                  </a:lnTo>
                  <a:lnTo>
                    <a:pt x="309" y="78"/>
                  </a:lnTo>
                  <a:lnTo>
                    <a:pt x="278" y="103"/>
                  </a:lnTo>
                  <a:lnTo>
                    <a:pt x="250" y="131"/>
                  </a:lnTo>
                  <a:lnTo>
                    <a:pt x="224" y="161"/>
                  </a:lnTo>
                  <a:lnTo>
                    <a:pt x="201" y="194"/>
                  </a:lnTo>
                  <a:lnTo>
                    <a:pt x="180" y="227"/>
                  </a:lnTo>
                  <a:lnTo>
                    <a:pt x="163" y="263"/>
                  </a:lnTo>
                  <a:lnTo>
                    <a:pt x="149" y="299"/>
                  </a:lnTo>
                  <a:lnTo>
                    <a:pt x="139" y="336"/>
                  </a:lnTo>
                  <a:lnTo>
                    <a:pt x="132" y="373"/>
                  </a:lnTo>
                  <a:lnTo>
                    <a:pt x="128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3500640" y="3871800"/>
              <a:ext cx="307080" cy="254160"/>
            </a:xfrm>
            <a:custGeom>
              <a:avLst/>
              <a:gdLst/>
              <a:ahLst/>
              <a:rect l="l" t="t" r="r" b="b"/>
              <a:pathLst>
                <a:path w="207" h="160">
                  <a:moveTo>
                    <a:pt x="103" y="160"/>
                  </a:moveTo>
                  <a:lnTo>
                    <a:pt x="94" y="160"/>
                  </a:lnTo>
                  <a:lnTo>
                    <a:pt x="86" y="159"/>
                  </a:lnTo>
                  <a:lnTo>
                    <a:pt x="78" y="156"/>
                  </a:lnTo>
                  <a:lnTo>
                    <a:pt x="70" y="153"/>
                  </a:lnTo>
                  <a:lnTo>
                    <a:pt x="63" y="150"/>
                  </a:lnTo>
                  <a:lnTo>
                    <a:pt x="55" y="145"/>
                  </a:lnTo>
                  <a:lnTo>
                    <a:pt x="48" y="141"/>
                  </a:lnTo>
                  <a:lnTo>
                    <a:pt x="41" y="136"/>
                  </a:lnTo>
                  <a:lnTo>
                    <a:pt x="32" y="126"/>
                  </a:lnTo>
                  <a:lnTo>
                    <a:pt x="23" y="116"/>
                  </a:lnTo>
                  <a:lnTo>
                    <a:pt x="16" y="104"/>
                  </a:lnTo>
                  <a:lnTo>
                    <a:pt x="11" y="91"/>
                  </a:lnTo>
                  <a:lnTo>
                    <a:pt x="6" y="79"/>
                  </a:lnTo>
                  <a:lnTo>
                    <a:pt x="2" y="66"/>
                  </a:lnTo>
                  <a:lnTo>
                    <a:pt x="1" y="52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9"/>
                  </a:lnTo>
                  <a:lnTo>
                    <a:pt x="4" y="0"/>
                  </a:lnTo>
                  <a:lnTo>
                    <a:pt x="202" y="0"/>
                  </a:lnTo>
                  <a:lnTo>
                    <a:pt x="203" y="9"/>
                  </a:lnTo>
                  <a:lnTo>
                    <a:pt x="206" y="19"/>
                  </a:lnTo>
                  <a:lnTo>
                    <a:pt x="207" y="27"/>
                  </a:lnTo>
                  <a:lnTo>
                    <a:pt x="207" y="37"/>
                  </a:lnTo>
                  <a:lnTo>
                    <a:pt x="204" y="62"/>
                  </a:lnTo>
                  <a:lnTo>
                    <a:pt x="198" y="85"/>
                  </a:lnTo>
                  <a:lnTo>
                    <a:pt x="190" y="106"/>
                  </a:lnTo>
                  <a:lnTo>
                    <a:pt x="176" y="123"/>
                  </a:lnTo>
                  <a:lnTo>
                    <a:pt x="161" y="139"/>
                  </a:lnTo>
                  <a:lnTo>
                    <a:pt x="144" y="150"/>
                  </a:lnTo>
                  <a:lnTo>
                    <a:pt x="124" y="158"/>
                  </a:lnTo>
                  <a:lnTo>
                    <a:pt x="103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3533400" y="3736800"/>
              <a:ext cx="241920" cy="73080"/>
            </a:xfrm>
            <a:custGeom>
              <a:avLst/>
              <a:gdLst/>
              <a:ahLst/>
              <a:rect l="l" t="t" r="r" b="b"/>
              <a:pathLst>
                <a:path w="163" h="46">
                  <a:moveTo>
                    <a:pt x="163" y="46"/>
                  </a:moveTo>
                  <a:lnTo>
                    <a:pt x="0" y="46"/>
                  </a:lnTo>
                  <a:lnTo>
                    <a:pt x="4" y="41"/>
                  </a:lnTo>
                  <a:lnTo>
                    <a:pt x="9" y="35"/>
                  </a:lnTo>
                  <a:lnTo>
                    <a:pt x="14" y="30"/>
                  </a:lnTo>
                  <a:lnTo>
                    <a:pt x="19" y="24"/>
                  </a:lnTo>
                  <a:lnTo>
                    <a:pt x="26" y="19"/>
                  </a:lnTo>
                  <a:lnTo>
                    <a:pt x="33" y="14"/>
                  </a:lnTo>
                  <a:lnTo>
                    <a:pt x="41" y="10"/>
                  </a:lnTo>
                  <a:lnTo>
                    <a:pt x="48" y="6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8" y="1"/>
                  </a:lnTo>
                  <a:lnTo>
                    <a:pt x="105" y="3"/>
                  </a:lnTo>
                  <a:lnTo>
                    <a:pt x="114" y="6"/>
                  </a:lnTo>
                  <a:lnTo>
                    <a:pt x="122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3" y="24"/>
                  </a:lnTo>
                  <a:lnTo>
                    <a:pt x="148" y="30"/>
                  </a:lnTo>
                  <a:lnTo>
                    <a:pt x="153" y="35"/>
                  </a:lnTo>
                  <a:lnTo>
                    <a:pt x="158" y="41"/>
                  </a:lnTo>
                  <a:lnTo>
                    <a:pt x="163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4500000" y="2727360"/>
              <a:ext cx="546120" cy="525600"/>
            </a:xfrm>
            <a:custGeom>
              <a:avLst/>
              <a:gdLst/>
              <a:ahLst/>
              <a:rect l="l" t="t" r="r" b="b"/>
              <a:pathLst>
                <a:path w="368" h="331">
                  <a:moveTo>
                    <a:pt x="368" y="165"/>
                  </a:moveTo>
                  <a:lnTo>
                    <a:pt x="367" y="148"/>
                  </a:lnTo>
                  <a:lnTo>
                    <a:pt x="365" y="133"/>
                  </a:lnTo>
                  <a:lnTo>
                    <a:pt x="361" y="117"/>
                  </a:lnTo>
                  <a:lnTo>
                    <a:pt x="355" y="102"/>
                  </a:lnTo>
                  <a:lnTo>
                    <a:pt x="347" y="87"/>
                  </a:lnTo>
                  <a:lnTo>
                    <a:pt x="337" y="74"/>
                  </a:lnTo>
                  <a:lnTo>
                    <a:pt x="326" y="61"/>
                  </a:lnTo>
                  <a:lnTo>
                    <a:pt x="314" y="49"/>
                  </a:lnTo>
                  <a:lnTo>
                    <a:pt x="300" y="38"/>
                  </a:lnTo>
                  <a:lnTo>
                    <a:pt x="286" y="28"/>
                  </a:lnTo>
                  <a:lnTo>
                    <a:pt x="270" y="19"/>
                  </a:lnTo>
                  <a:lnTo>
                    <a:pt x="255" y="12"/>
                  </a:lnTo>
                  <a:lnTo>
                    <a:pt x="238" y="7"/>
                  </a:lnTo>
                  <a:lnTo>
                    <a:pt x="221" y="4"/>
                  </a:lnTo>
                  <a:lnTo>
                    <a:pt x="203" y="1"/>
                  </a:lnTo>
                  <a:lnTo>
                    <a:pt x="185" y="0"/>
                  </a:lnTo>
                  <a:lnTo>
                    <a:pt x="147" y="4"/>
                  </a:lnTo>
                  <a:lnTo>
                    <a:pt x="113" y="13"/>
                  </a:lnTo>
                  <a:lnTo>
                    <a:pt x="82" y="29"/>
                  </a:lnTo>
                  <a:lnTo>
                    <a:pt x="54" y="49"/>
                  </a:lnTo>
                  <a:lnTo>
                    <a:pt x="32" y="73"/>
                  </a:lnTo>
                  <a:lnTo>
                    <a:pt x="15" y="101"/>
                  </a:lnTo>
                  <a:lnTo>
                    <a:pt x="3" y="132"/>
                  </a:lnTo>
                  <a:lnTo>
                    <a:pt x="0" y="165"/>
                  </a:lnTo>
                  <a:lnTo>
                    <a:pt x="1" y="181"/>
                  </a:lnTo>
                  <a:lnTo>
                    <a:pt x="3" y="197"/>
                  </a:lnTo>
                  <a:lnTo>
                    <a:pt x="8" y="212"/>
                  </a:lnTo>
                  <a:lnTo>
                    <a:pt x="15" y="228"/>
                  </a:lnTo>
                  <a:lnTo>
                    <a:pt x="22" y="242"/>
                  </a:lnTo>
                  <a:lnTo>
                    <a:pt x="31" y="255"/>
                  </a:lnTo>
                  <a:lnTo>
                    <a:pt x="42" y="268"/>
                  </a:lnTo>
                  <a:lnTo>
                    <a:pt x="54" y="281"/>
                  </a:lnTo>
                  <a:lnTo>
                    <a:pt x="65" y="289"/>
                  </a:lnTo>
                  <a:lnTo>
                    <a:pt x="77" y="298"/>
                  </a:lnTo>
                  <a:lnTo>
                    <a:pt x="89" y="305"/>
                  </a:lnTo>
                  <a:lnTo>
                    <a:pt x="103" y="311"/>
                  </a:lnTo>
                  <a:lnTo>
                    <a:pt x="115" y="317"/>
                  </a:lnTo>
                  <a:lnTo>
                    <a:pt x="130" y="321"/>
                  </a:lnTo>
                  <a:lnTo>
                    <a:pt x="144" y="325"/>
                  </a:lnTo>
                  <a:lnTo>
                    <a:pt x="159" y="327"/>
                  </a:lnTo>
                  <a:lnTo>
                    <a:pt x="165" y="328"/>
                  </a:lnTo>
                  <a:lnTo>
                    <a:pt x="170" y="330"/>
                  </a:lnTo>
                  <a:lnTo>
                    <a:pt x="176" y="331"/>
                  </a:lnTo>
                  <a:lnTo>
                    <a:pt x="181" y="331"/>
                  </a:lnTo>
                  <a:lnTo>
                    <a:pt x="181" y="328"/>
                  </a:lnTo>
                  <a:lnTo>
                    <a:pt x="185" y="328"/>
                  </a:lnTo>
                  <a:lnTo>
                    <a:pt x="188" y="328"/>
                  </a:lnTo>
                  <a:lnTo>
                    <a:pt x="191" y="328"/>
                  </a:lnTo>
                  <a:lnTo>
                    <a:pt x="195" y="328"/>
                  </a:lnTo>
                  <a:lnTo>
                    <a:pt x="195" y="331"/>
                  </a:lnTo>
                  <a:lnTo>
                    <a:pt x="201" y="331"/>
                  </a:lnTo>
                  <a:lnTo>
                    <a:pt x="207" y="330"/>
                  </a:lnTo>
                  <a:lnTo>
                    <a:pt x="213" y="328"/>
                  </a:lnTo>
                  <a:lnTo>
                    <a:pt x="219" y="326"/>
                  </a:lnTo>
                  <a:lnTo>
                    <a:pt x="232" y="322"/>
                  </a:lnTo>
                  <a:lnTo>
                    <a:pt x="246" y="319"/>
                  </a:lnTo>
                  <a:lnTo>
                    <a:pt x="258" y="315"/>
                  </a:lnTo>
                  <a:lnTo>
                    <a:pt x="270" y="309"/>
                  </a:lnTo>
                  <a:lnTo>
                    <a:pt x="281" y="304"/>
                  </a:lnTo>
                  <a:lnTo>
                    <a:pt x="293" y="296"/>
                  </a:lnTo>
                  <a:lnTo>
                    <a:pt x="304" y="289"/>
                  </a:lnTo>
                  <a:lnTo>
                    <a:pt x="314" y="281"/>
                  </a:lnTo>
                  <a:lnTo>
                    <a:pt x="326" y="268"/>
                  </a:lnTo>
                  <a:lnTo>
                    <a:pt x="337" y="255"/>
                  </a:lnTo>
                  <a:lnTo>
                    <a:pt x="347" y="242"/>
                  </a:lnTo>
                  <a:lnTo>
                    <a:pt x="355" y="228"/>
                  </a:lnTo>
                  <a:lnTo>
                    <a:pt x="361" y="212"/>
                  </a:lnTo>
                  <a:lnTo>
                    <a:pt x="365" y="197"/>
                  </a:lnTo>
                  <a:lnTo>
                    <a:pt x="367" y="181"/>
                  </a:lnTo>
                  <a:lnTo>
                    <a:pt x="368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4875480" y="2787480"/>
              <a:ext cx="132120" cy="17784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89" y="112"/>
                  </a:moveTo>
                  <a:lnTo>
                    <a:pt x="36" y="112"/>
                  </a:lnTo>
                  <a:lnTo>
                    <a:pt x="32" y="79"/>
                  </a:lnTo>
                  <a:lnTo>
                    <a:pt x="25" y="49"/>
                  </a:lnTo>
                  <a:lnTo>
                    <a:pt x="14" y="22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5"/>
                  </a:lnTo>
                  <a:lnTo>
                    <a:pt x="17" y="9"/>
                  </a:lnTo>
                  <a:lnTo>
                    <a:pt x="23" y="11"/>
                  </a:lnTo>
                  <a:lnTo>
                    <a:pt x="28" y="15"/>
                  </a:lnTo>
                  <a:lnTo>
                    <a:pt x="33" y="19"/>
                  </a:lnTo>
                  <a:lnTo>
                    <a:pt x="38" y="22"/>
                  </a:lnTo>
                  <a:lnTo>
                    <a:pt x="43" y="26"/>
                  </a:lnTo>
                  <a:lnTo>
                    <a:pt x="52" y="35"/>
                  </a:lnTo>
                  <a:lnTo>
                    <a:pt x="61" y="45"/>
                  </a:lnTo>
                  <a:lnTo>
                    <a:pt x="68" y="55"/>
                  </a:lnTo>
                  <a:lnTo>
                    <a:pt x="74" y="66"/>
                  </a:lnTo>
                  <a:lnTo>
                    <a:pt x="81" y="77"/>
                  </a:lnTo>
                  <a:lnTo>
                    <a:pt x="84" y="89"/>
                  </a:lnTo>
                  <a:lnTo>
                    <a:pt x="87" y="100"/>
                  </a:lnTo>
                  <a:lnTo>
                    <a:pt x="8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4794120" y="3002040"/>
              <a:ext cx="96120" cy="209520"/>
            </a:xfrm>
            <a:custGeom>
              <a:avLst/>
              <a:gdLst/>
              <a:ahLst/>
              <a:rect l="l" t="t" r="r" b="b"/>
              <a:pathLst>
                <a:path w="65" h="132">
                  <a:moveTo>
                    <a:pt x="13" y="131"/>
                  </a:moveTo>
                  <a:lnTo>
                    <a:pt x="10" y="131"/>
                  </a:lnTo>
                  <a:lnTo>
                    <a:pt x="7" y="131"/>
                  </a:lnTo>
                  <a:lnTo>
                    <a:pt x="3" y="132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65" y="0"/>
                  </a:lnTo>
                  <a:lnTo>
                    <a:pt x="64" y="25"/>
                  </a:lnTo>
                  <a:lnTo>
                    <a:pt x="60" y="47"/>
                  </a:lnTo>
                  <a:lnTo>
                    <a:pt x="55" y="67"/>
                  </a:lnTo>
                  <a:lnTo>
                    <a:pt x="49" y="85"/>
                  </a:lnTo>
                  <a:lnTo>
                    <a:pt x="41" y="101"/>
                  </a:lnTo>
                  <a:lnTo>
                    <a:pt x="33" y="114"/>
                  </a:lnTo>
                  <a:lnTo>
                    <a:pt x="23" y="124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1"/>
            <p:cNvSpPr/>
            <p:nvPr/>
          </p:nvSpPr>
          <p:spPr>
            <a:xfrm>
              <a:off x="4664880" y="3002040"/>
              <a:ext cx="90360" cy="20952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43" y="123"/>
                  </a:moveTo>
                  <a:lnTo>
                    <a:pt x="34" y="113"/>
                  </a:lnTo>
                  <a:lnTo>
                    <a:pt x="25" y="102"/>
                  </a:lnTo>
                  <a:lnTo>
                    <a:pt x="19" y="89"/>
                  </a:lnTo>
                  <a:lnTo>
                    <a:pt x="13" y="73"/>
                  </a:lnTo>
                  <a:lnTo>
                    <a:pt x="8" y="57"/>
                  </a:lnTo>
                  <a:lnTo>
                    <a:pt x="4" y="39"/>
                  </a:lnTo>
                  <a:lnTo>
                    <a:pt x="2" y="20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132"/>
                  </a:lnTo>
                  <a:lnTo>
                    <a:pt x="56" y="131"/>
                  </a:lnTo>
                  <a:lnTo>
                    <a:pt x="51" y="130"/>
                  </a:lnTo>
                  <a:lnTo>
                    <a:pt x="48" y="126"/>
                  </a:lnTo>
                  <a:lnTo>
                    <a:pt x="43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2"/>
            <p:cNvSpPr/>
            <p:nvPr/>
          </p:nvSpPr>
          <p:spPr>
            <a:xfrm>
              <a:off x="4664880" y="2770200"/>
              <a:ext cx="90360" cy="195120"/>
            </a:xfrm>
            <a:custGeom>
              <a:avLst/>
              <a:gdLst/>
              <a:ahLst/>
              <a:rect l="l" t="t" r="r" b="b"/>
              <a:pathLst>
                <a:path w="61" h="123">
                  <a:moveTo>
                    <a:pt x="61" y="0"/>
                  </a:moveTo>
                  <a:lnTo>
                    <a:pt x="61" y="123"/>
                  </a:lnTo>
                  <a:lnTo>
                    <a:pt x="0" y="123"/>
                  </a:lnTo>
                  <a:lnTo>
                    <a:pt x="2" y="106"/>
                  </a:lnTo>
                  <a:lnTo>
                    <a:pt x="4" y="88"/>
                  </a:lnTo>
                  <a:lnTo>
                    <a:pt x="9" y="71"/>
                  </a:lnTo>
                  <a:lnTo>
                    <a:pt x="14" y="57"/>
                  </a:lnTo>
                  <a:lnTo>
                    <a:pt x="19" y="43"/>
                  </a:lnTo>
                  <a:lnTo>
                    <a:pt x="26" y="31"/>
                  </a:lnTo>
                  <a:lnTo>
                    <a:pt x="34" y="20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3"/>
            <p:cNvSpPr/>
            <p:nvPr/>
          </p:nvSpPr>
          <p:spPr>
            <a:xfrm>
              <a:off x="4794120" y="2768760"/>
              <a:ext cx="96120" cy="196560"/>
            </a:xfrm>
            <a:custGeom>
              <a:avLst/>
              <a:gdLst/>
              <a:ahLst/>
              <a:rect l="l" t="t" r="r" b="b"/>
              <a:pathLst>
                <a:path w="65" h="124">
                  <a:moveTo>
                    <a:pt x="0" y="124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3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3" y="21"/>
                  </a:lnTo>
                  <a:lnTo>
                    <a:pt x="40" y="32"/>
                  </a:lnTo>
                  <a:lnTo>
                    <a:pt x="46" y="44"/>
                  </a:lnTo>
                  <a:lnTo>
                    <a:pt x="52" y="58"/>
                  </a:lnTo>
                  <a:lnTo>
                    <a:pt x="57" y="72"/>
                  </a:lnTo>
                  <a:lnTo>
                    <a:pt x="61" y="89"/>
                  </a:lnTo>
                  <a:lnTo>
                    <a:pt x="64" y="107"/>
                  </a:lnTo>
                  <a:lnTo>
                    <a:pt x="65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4"/>
            <p:cNvSpPr/>
            <p:nvPr/>
          </p:nvSpPr>
          <p:spPr>
            <a:xfrm>
              <a:off x="4540320" y="2781360"/>
              <a:ext cx="143640" cy="18396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46" y="30"/>
                  </a:moveTo>
                  <a:lnTo>
                    <a:pt x="52" y="26"/>
                  </a:lnTo>
                  <a:lnTo>
                    <a:pt x="57" y="21"/>
                  </a:lnTo>
                  <a:lnTo>
                    <a:pt x="63" y="17"/>
                  </a:lnTo>
                  <a:lnTo>
                    <a:pt x="69" y="13"/>
                  </a:lnTo>
                  <a:lnTo>
                    <a:pt x="77" y="9"/>
                  </a:lnTo>
                  <a:lnTo>
                    <a:pt x="83" y="6"/>
                  </a:lnTo>
                  <a:lnTo>
                    <a:pt x="89" y="3"/>
                  </a:lnTo>
                  <a:lnTo>
                    <a:pt x="97" y="0"/>
                  </a:lnTo>
                  <a:lnTo>
                    <a:pt x="89" y="11"/>
                  </a:lnTo>
                  <a:lnTo>
                    <a:pt x="82" y="23"/>
                  </a:lnTo>
                  <a:lnTo>
                    <a:pt x="76" y="36"/>
                  </a:lnTo>
                  <a:lnTo>
                    <a:pt x="71" y="50"/>
                  </a:lnTo>
                  <a:lnTo>
                    <a:pt x="66" y="66"/>
                  </a:lnTo>
                  <a:lnTo>
                    <a:pt x="62" y="81"/>
                  </a:lnTo>
                  <a:lnTo>
                    <a:pt x="60" y="99"/>
                  </a:lnTo>
                  <a:lnTo>
                    <a:pt x="58" y="116"/>
                  </a:lnTo>
                  <a:lnTo>
                    <a:pt x="0" y="116"/>
                  </a:lnTo>
                  <a:lnTo>
                    <a:pt x="2" y="104"/>
                  </a:lnTo>
                  <a:lnTo>
                    <a:pt x="5" y="93"/>
                  </a:lnTo>
                  <a:lnTo>
                    <a:pt x="9" y="81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7" y="39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5"/>
            <p:cNvSpPr/>
            <p:nvPr/>
          </p:nvSpPr>
          <p:spPr>
            <a:xfrm>
              <a:off x="4540320" y="3002040"/>
              <a:ext cx="136080" cy="190440"/>
            </a:xfrm>
            <a:custGeom>
              <a:avLst/>
              <a:gdLst/>
              <a:ahLst/>
              <a:rect l="l" t="t" r="r" b="b"/>
              <a:pathLst>
                <a:path w="92" h="120">
                  <a:moveTo>
                    <a:pt x="0" y="0"/>
                  </a:moveTo>
                  <a:lnTo>
                    <a:pt x="58" y="0"/>
                  </a:lnTo>
                  <a:lnTo>
                    <a:pt x="61" y="35"/>
                  </a:lnTo>
                  <a:lnTo>
                    <a:pt x="68" y="67"/>
                  </a:lnTo>
                  <a:lnTo>
                    <a:pt x="78" y="95"/>
                  </a:lnTo>
                  <a:lnTo>
                    <a:pt x="92" y="120"/>
                  </a:lnTo>
                  <a:lnTo>
                    <a:pt x="86" y="117"/>
                  </a:lnTo>
                  <a:lnTo>
                    <a:pt x="79" y="114"/>
                  </a:lnTo>
                  <a:lnTo>
                    <a:pt x="73" y="111"/>
                  </a:lnTo>
                  <a:lnTo>
                    <a:pt x="67" y="108"/>
                  </a:lnTo>
                  <a:lnTo>
                    <a:pt x="62" y="103"/>
                  </a:lnTo>
                  <a:lnTo>
                    <a:pt x="56" y="100"/>
                  </a:lnTo>
                  <a:lnTo>
                    <a:pt x="51" y="95"/>
                  </a:lnTo>
                  <a:lnTo>
                    <a:pt x="46" y="91"/>
                  </a:lnTo>
                  <a:lnTo>
                    <a:pt x="36" y="81"/>
                  </a:lnTo>
                  <a:lnTo>
                    <a:pt x="27" y="71"/>
                  </a:lnTo>
                  <a:lnTo>
                    <a:pt x="20" y="61"/>
                  </a:lnTo>
                  <a:lnTo>
                    <a:pt x="14" y="49"/>
                  </a:lnTo>
                  <a:lnTo>
                    <a:pt x="9" y="38"/>
                  </a:lnTo>
                  <a:lnTo>
                    <a:pt x="4" y="26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6"/>
            <p:cNvSpPr/>
            <p:nvPr/>
          </p:nvSpPr>
          <p:spPr>
            <a:xfrm>
              <a:off x="4883040" y="3002040"/>
              <a:ext cx="124920" cy="18396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0" y="116"/>
                  </a:moveTo>
                  <a:lnTo>
                    <a:pt x="12" y="92"/>
                  </a:lnTo>
                  <a:lnTo>
                    <a:pt x="22" y="64"/>
                  </a:lnTo>
                  <a:lnTo>
                    <a:pt x="28" y="34"/>
                  </a:lnTo>
                  <a:lnTo>
                    <a:pt x="31" y="0"/>
                  </a:lnTo>
                  <a:lnTo>
                    <a:pt x="84" y="0"/>
                  </a:lnTo>
                  <a:lnTo>
                    <a:pt x="82" y="19"/>
                  </a:lnTo>
                  <a:lnTo>
                    <a:pt x="76" y="36"/>
                  </a:lnTo>
                  <a:lnTo>
                    <a:pt x="68" y="52"/>
                  </a:lnTo>
                  <a:lnTo>
                    <a:pt x="58" y="68"/>
                  </a:lnTo>
                  <a:lnTo>
                    <a:pt x="46" y="82"/>
                  </a:lnTo>
                  <a:lnTo>
                    <a:pt x="32" y="95"/>
                  </a:lnTo>
                  <a:lnTo>
                    <a:pt x="17" y="10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7"/>
            <p:cNvSpPr/>
            <p:nvPr/>
          </p:nvSpPr>
          <p:spPr>
            <a:xfrm>
              <a:off x="41508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8"/>
            <p:cNvSpPr/>
            <p:nvPr/>
          </p:nvSpPr>
          <p:spPr>
            <a:xfrm>
              <a:off x="42519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9"/>
            <p:cNvSpPr/>
            <p:nvPr/>
          </p:nvSpPr>
          <p:spPr>
            <a:xfrm>
              <a:off x="43560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0"/>
            <p:cNvSpPr/>
            <p:nvPr/>
          </p:nvSpPr>
          <p:spPr>
            <a:xfrm>
              <a:off x="44571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1"/>
            <p:cNvSpPr/>
            <p:nvPr/>
          </p:nvSpPr>
          <p:spPr>
            <a:xfrm>
              <a:off x="41508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2"/>
            <p:cNvSpPr/>
            <p:nvPr/>
          </p:nvSpPr>
          <p:spPr>
            <a:xfrm>
              <a:off x="42519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3"/>
            <p:cNvSpPr/>
            <p:nvPr/>
          </p:nvSpPr>
          <p:spPr>
            <a:xfrm>
              <a:off x="43560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44571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5"/>
            <p:cNvSpPr/>
            <p:nvPr/>
          </p:nvSpPr>
          <p:spPr>
            <a:xfrm>
              <a:off x="41508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6"/>
            <p:cNvSpPr/>
            <p:nvPr/>
          </p:nvSpPr>
          <p:spPr>
            <a:xfrm>
              <a:off x="42519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7"/>
            <p:cNvSpPr/>
            <p:nvPr/>
          </p:nvSpPr>
          <p:spPr>
            <a:xfrm>
              <a:off x="43560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8"/>
            <p:cNvSpPr/>
            <p:nvPr/>
          </p:nvSpPr>
          <p:spPr>
            <a:xfrm>
              <a:off x="44571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7168-183E-471F-91FD-AA64AAFEB1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Content Placeholder 152577"/>
          <p:cNvGrpSpPr/>
          <p:nvPr/>
        </p:nvGrpSpPr>
        <p:grpSpPr>
          <a:xfrm>
            <a:off x="457200" y="685800"/>
            <a:ext cx="8220960" cy="5535000"/>
            <a:chOff x="457200" y="685800"/>
            <a:chExt cx="8220960" cy="5535000"/>
          </a:xfrm>
        </p:grpSpPr>
        <p:sp>
          <p:nvSpPr>
            <p:cNvPr id="445" name="_s5130"/>
            <p:cNvSpPr/>
            <p:nvPr/>
          </p:nvSpPr>
          <p:spPr>
            <a:xfrm flipV="1">
              <a:off x="4609080" y="1968840"/>
              <a:ext cx="0" cy="708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5124"/>
            <p:cNvSpPr/>
            <p:nvPr/>
          </p:nvSpPr>
          <p:spPr>
            <a:xfrm flipH="1">
              <a:off x="2285640" y="3385800"/>
              <a:ext cx="130608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5125"/>
            <p:cNvSpPr/>
            <p:nvPr/>
          </p:nvSpPr>
          <p:spPr>
            <a:xfrm>
              <a:off x="3206160" y="685800"/>
              <a:ext cx="2812320" cy="14169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обходимость резервного коп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5126"/>
            <p:cNvSpPr/>
            <p:nvPr/>
          </p:nvSpPr>
          <p:spPr>
            <a:xfrm>
              <a:off x="4609080" y="4095000"/>
              <a:ext cx="2880" cy="8564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5127"/>
            <p:cNvSpPr/>
            <p:nvPr/>
          </p:nvSpPr>
          <p:spPr>
            <a:xfrm>
              <a:off x="3133080" y="4803480"/>
              <a:ext cx="27324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Затраты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окупка и обслужи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5128"/>
            <p:cNvSpPr/>
            <p:nvPr/>
          </p:nvSpPr>
          <p:spPr>
            <a:xfrm>
              <a:off x="5626080" y="3385800"/>
              <a:ext cx="1017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5129"/>
            <p:cNvSpPr/>
            <p:nvPr/>
          </p:nvSpPr>
          <p:spPr>
            <a:xfrm>
              <a:off x="6643800" y="2677320"/>
              <a:ext cx="203436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Адаптация к новой систем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5131"/>
            <p:cNvSpPr/>
            <p:nvPr/>
          </p:nvSpPr>
          <p:spPr>
            <a:xfrm>
              <a:off x="457200" y="2677320"/>
              <a:ext cx="203436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буче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ремя и день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5132"/>
            <p:cNvSpPr/>
            <p:nvPr/>
          </p:nvSpPr>
          <p:spPr>
            <a:xfrm>
              <a:off x="3592080" y="2677320"/>
              <a:ext cx="203364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Picture 13"/>
            <p:cNvSpPr/>
            <p:nvPr/>
          </p:nvSpPr>
          <p:spPr>
            <a:xfrm>
              <a:off x="6018840" y="3580920"/>
              <a:ext cx="1349280" cy="25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13"/>
          <p:cNvSpPr/>
          <p:nvPr/>
        </p:nvSpPr>
        <p:spPr>
          <a:xfrm>
            <a:off x="304920" y="533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7" descr="j0205582"/>
          <p:cNvPicPr/>
          <p:nvPr/>
        </p:nvPicPr>
        <p:blipFill>
          <a:blip r:embed="rId6"/>
          <a:stretch/>
        </p:blipFill>
        <p:spPr>
          <a:xfrm>
            <a:off x="2666880" y="1847880"/>
            <a:ext cx="3810240" cy="3105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"/>
          <p:cNvPicPr/>
          <p:nvPr/>
        </p:nvPicPr>
        <p:blipFill>
          <a:blip r:embed="rId7"/>
          <a:stretch/>
        </p:blipFill>
        <p:spPr>
          <a:xfrm>
            <a:off x="5762520" y="3429000"/>
            <a:ext cx="1781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495288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520" y="1469880"/>
            <a:ext cx="853452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управления входящими и исходящими данны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жет быть бумажной или компьютер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еих систем нужна похожая структура, включая однозначные идентификаторы, формы, журналы и таблиц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заведения компьютерной системой основным фактором является сто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9AB5-899B-42FF-AF6D-9C48789666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344160"/>
            <a:ext cx="6248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орошая система управления информацией: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ожет правильно распоряжаться всеми данными – конечным продуктом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отрит все варианты использования лабораторных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доступ, правильность, своевременность и защиту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конфиденциальность информации о паци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C8ED-0190-4FCE-AB7C-FA36D52057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7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68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3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4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5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0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3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4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99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4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08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1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7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0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3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C8CB-E538-4D55-BA64-20BD262C6E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ы заведуете лабораторией в больнице на 300 коек, и руководство больницы известило Вас, что имеются средства для покупки компьютеризированной системы лабораторной информации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бы Вы оценили, подойдет ли такая система Вашей лаборатор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2CD7-CD22-49A9-8966-5013249EAE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8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3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4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5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0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3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4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9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4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8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1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7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0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3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F7EA-29A3-494A-80BF-5CAFF2E339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DA05-49A8-4409-BF15-6D2AE246E8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оль в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宋体"/>
              </a:rPr>
              <a:t>Результат анализа – это конечный продукт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752480" y="4724280"/>
            <a:ext cx="2133720" cy="12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0" descr="j0433870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3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8F25-4155-433A-A23E-CDDD23FEC2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8"/>
          <p:cNvSpPr/>
          <p:nvPr/>
        </p:nvSpPr>
        <p:spPr>
          <a:xfrm>
            <a:off x="2209680" y="2971800"/>
            <a:ext cx="2210040" cy="1981080"/>
          </a:xfrm>
          <a:prstGeom prst="rightArrowCallout">
            <a:avLst>
              <a:gd name="adj1" fmla="val 25002"/>
              <a:gd name="adj2" fmla="val 25000"/>
              <a:gd name="adj3" fmla="val 17312"/>
              <a:gd name="adj4" fmla="val 66667"/>
            </a:avLst>
          </a:prstGeom>
          <a:gradFill rotWithShape="0">
            <a:gsLst>
              <a:gs pos="0">
                <a:srgbClr val="00007d"/>
              </a:gs>
              <a:gs pos="100000">
                <a:srgbClr val="b76e0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информацией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Documents"/>
          <p:cNvSpPr/>
          <p:nvPr/>
        </p:nvSpPr>
        <p:spPr>
          <a:xfrm>
            <a:off x="685800" y="2057400"/>
            <a:ext cx="1752480" cy="1981080"/>
          </a:xfrm>
          <a:custGeom>
            <a:avLst/>
            <a:gdLst>
              <a:gd name="textAreaLeft" fmla="*/ 133200 w 1752480"/>
              <a:gd name="textAreaRight" fmla="*/ 1340640 w 1752480"/>
              <a:gd name="textAreaTop" fmla="*/ 382320 h 1981080"/>
              <a:gd name="textAreaBottom" fmla="*/ 158796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mputr2"/>
          <p:cNvSpPr/>
          <p:nvPr/>
        </p:nvSpPr>
        <p:spPr>
          <a:xfrm>
            <a:off x="228600" y="4114800"/>
            <a:ext cx="2895480" cy="2133720"/>
          </a:xfrm>
          <a:custGeom>
            <a:avLst/>
            <a:gdLst>
              <a:gd name="textAreaLeft" fmla="*/ 830160 w 2895480"/>
              <a:gd name="textAreaRight" fmla="*/ 2086560 w 2895480"/>
              <a:gd name="textAreaTop" fmla="*/ 189000 h 2133720"/>
              <a:gd name="textAreaBottom" fmla="*/ 963000 h 2133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8" descr="MCj01885290000[1]"/>
          <p:cNvPicPr/>
          <p:nvPr/>
        </p:nvPicPr>
        <p:blipFill>
          <a:blip r:embed="rId2"/>
          <a:stretch/>
        </p:blipFill>
        <p:spPr>
          <a:xfrm>
            <a:off x="6477120" y="1260360"/>
            <a:ext cx="1523880" cy="1254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0" descr="MCj01885270000[1]"/>
          <p:cNvPicPr/>
          <p:nvPr/>
        </p:nvPicPr>
        <p:blipFill>
          <a:blip r:embed="rId3"/>
          <a:stretch/>
        </p:blipFill>
        <p:spPr>
          <a:xfrm>
            <a:off x="5181480" y="1066680"/>
            <a:ext cx="1600200" cy="1260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1"/>
          <p:cNvSpPr/>
          <p:nvPr/>
        </p:nvSpPr>
        <p:spPr>
          <a:xfrm>
            <a:off x="609480" y="2438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умаж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609480" y="5410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лектр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4"/>
          <p:cNvSpPr/>
          <p:nvPr/>
        </p:nvSpPr>
        <p:spPr>
          <a:xfrm>
            <a:off x="6094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 процессы для управления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9"/>
          <p:cNvSpPr/>
          <p:nvPr/>
        </p:nvSpPr>
        <p:spPr>
          <a:xfrm>
            <a:off x="2448000" y="3708360"/>
            <a:ext cx="20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911"/>
                </a:solidFill>
                <a:latin typeface="Verdana"/>
              </a:rPr>
              <a:t>Информация о паци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0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1"/>
          <p:cNvSpPr/>
          <p:nvPr/>
        </p:nvSpPr>
        <p:spPr>
          <a:xfrm>
            <a:off x="4419720" y="2514600"/>
            <a:ext cx="426708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2"/>
          <p:cNvSpPr/>
          <p:nvPr/>
        </p:nvSpPr>
        <p:spPr>
          <a:xfrm>
            <a:off x="4800600" y="3575160"/>
            <a:ext cx="40384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оступ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защищ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нфиден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3"/>
          <p:cNvSpPr/>
          <p:nvPr/>
        </p:nvSpPr>
        <p:spPr>
          <a:xfrm>
            <a:off x="5105520" y="2590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я качества: 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4"/>
          <p:cNvSpPr/>
          <p:nvPr/>
        </p:nvSpPr>
        <p:spPr>
          <a:xfrm>
            <a:off x="5486400" y="2971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6" descr="j0433870"/>
          <p:cNvPicPr/>
          <p:nvPr/>
        </p:nvPicPr>
        <p:blipFill>
          <a:blip r:embed="rId4"/>
          <a:stretch/>
        </p:blipFill>
        <p:spPr>
          <a:xfrm>
            <a:off x="4495680" y="2590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83C7-E0CB-4394-94AA-CBA13DA209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Diagram 2"/>
          <p:cNvGrpSpPr/>
          <p:nvPr/>
        </p:nvGrpSpPr>
        <p:grpSpPr>
          <a:xfrm>
            <a:off x="382680" y="752400"/>
            <a:ext cx="8233560" cy="5427360"/>
            <a:chOff x="382680" y="752400"/>
            <a:chExt cx="8233560" cy="5427360"/>
          </a:xfrm>
        </p:grpSpPr>
        <p:sp>
          <p:nvSpPr>
            <p:cNvPr id="227" name="_s1028"/>
            <p:cNvSpPr/>
            <p:nvPr/>
          </p:nvSpPr>
          <p:spPr>
            <a:xfrm flipH="1" flipV="1">
              <a:off x="311472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29"/>
            <p:cNvSpPr/>
            <p:nvPr/>
          </p:nvSpPr>
          <p:spPr>
            <a:xfrm>
              <a:off x="777960" y="1179000"/>
              <a:ext cx="2499840" cy="1488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ая передача информаци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0"/>
            <p:cNvSpPr/>
            <p:nvPr/>
          </p:nvSpPr>
          <p:spPr>
            <a:xfrm flipH="1">
              <a:off x="251136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1"/>
            <p:cNvSpPr/>
            <p:nvPr/>
          </p:nvSpPr>
          <p:spPr>
            <a:xfrm>
              <a:off x="382680" y="2788200"/>
              <a:ext cx="2524320" cy="1357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ые системы отчетнос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2"/>
            <p:cNvSpPr/>
            <p:nvPr/>
          </p:nvSpPr>
          <p:spPr>
            <a:xfrm flipH="1">
              <a:off x="311472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3"/>
            <p:cNvSpPr/>
            <p:nvPr/>
          </p:nvSpPr>
          <p:spPr>
            <a:xfrm>
              <a:off x="1353600" y="4227120"/>
              <a:ext cx="2062800" cy="1357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Конфиден-циальност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4"/>
            <p:cNvSpPr/>
            <p:nvPr/>
          </p:nvSpPr>
          <p:spPr>
            <a:xfrm>
              <a:off x="4572000" y="41414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35"/>
            <p:cNvSpPr/>
            <p:nvPr/>
          </p:nvSpPr>
          <p:spPr>
            <a:xfrm>
              <a:off x="3543120" y="4822560"/>
              <a:ext cx="2063520" cy="1357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Защита данных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6"/>
            <p:cNvSpPr/>
            <p:nvPr/>
          </p:nvSpPr>
          <p:spPr>
            <a:xfrm>
              <a:off x="529920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7"/>
            <p:cNvSpPr/>
            <p:nvPr/>
          </p:nvSpPr>
          <p:spPr>
            <a:xfrm>
              <a:off x="5866200" y="4423320"/>
              <a:ext cx="2062800" cy="135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Процессы проверк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8"/>
            <p:cNvSpPr/>
            <p:nvPr/>
          </p:nvSpPr>
          <p:spPr>
            <a:xfrm>
              <a:off x="560088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9"/>
            <p:cNvSpPr/>
            <p:nvPr/>
          </p:nvSpPr>
          <p:spPr>
            <a:xfrm>
              <a:off x="6553440" y="2786040"/>
              <a:ext cx="206280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Журналы, таблиц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40"/>
            <p:cNvSpPr/>
            <p:nvPr/>
          </p:nvSpPr>
          <p:spPr>
            <a:xfrm flipV="1">
              <a:off x="529920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41"/>
            <p:cNvSpPr/>
            <p:nvPr/>
          </p:nvSpPr>
          <p:spPr>
            <a:xfrm>
              <a:off x="5866200" y="1180800"/>
              <a:ext cx="2349360" cy="1486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тандартная форма запроса на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42"/>
            <p:cNvSpPr/>
            <p:nvPr/>
          </p:nvSpPr>
          <p:spPr>
            <a:xfrm flipV="1">
              <a:off x="4572000" y="21092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43"/>
            <p:cNvSpPr/>
            <p:nvPr/>
          </p:nvSpPr>
          <p:spPr>
            <a:xfrm>
              <a:off x="3353040" y="752400"/>
              <a:ext cx="2361600" cy="1357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днозначные идентификаторы проб, пац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44"/>
            <p:cNvSpPr/>
            <p:nvPr/>
          </p:nvSpPr>
          <p:spPr>
            <a:xfrm>
              <a:off x="3540600" y="2788200"/>
              <a:ext cx="2062800" cy="1357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ажные 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днозначные идентифика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7696440" cy="29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ам должны присваиваться в лаборатории однозначные идентификатор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ГММД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XXX – 09051200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значает, что проба №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7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получена 12 мая 2009 го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Test_Bracket_patient-safety"/>
          <p:cNvPicPr/>
          <p:nvPr/>
        </p:nvPicPr>
        <p:blipFill>
          <a:blip r:embed="rId2"/>
          <a:stretch/>
        </p:blipFill>
        <p:spPr>
          <a:xfrm>
            <a:off x="586728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2724120" y="1523880"/>
            <a:ext cx="3143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дентификаторы паци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1A20-A2B1-48FE-A930-2AB6B3538F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5AEC-DBD5-46FF-AA9E-33C34C7D33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запроса на исследование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7" name="Group 19"/>
          <p:cNvGrpSpPr/>
          <p:nvPr/>
        </p:nvGrpSpPr>
        <p:grpSpPr>
          <a:xfrm>
            <a:off x="2286000" y="4114800"/>
            <a:ext cx="3276720" cy="2361960"/>
            <a:chOff x="2286000" y="4114800"/>
            <a:chExt cx="3276720" cy="2361960"/>
          </a:xfrm>
        </p:grpSpPr>
        <p:grpSp>
          <p:nvGrpSpPr>
            <p:cNvPr id="258" name="Group 20"/>
            <p:cNvGrpSpPr/>
            <p:nvPr/>
          </p:nvGrpSpPr>
          <p:grpSpPr>
            <a:xfrm>
              <a:off x="3124080" y="4114800"/>
              <a:ext cx="2438640" cy="2361960"/>
              <a:chOff x="3124080" y="4114800"/>
              <a:chExt cx="2438640" cy="2361960"/>
            </a:xfrm>
          </p:grpSpPr>
          <p:pic>
            <p:nvPicPr>
              <p:cNvPr id="259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4114800"/>
                <a:ext cx="243540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0" name="Group 22"/>
              <p:cNvGrpSpPr/>
              <p:nvPr/>
            </p:nvGrpSpPr>
            <p:grpSpPr>
              <a:xfrm>
                <a:off x="3124080" y="4114800"/>
                <a:ext cx="2438640" cy="2361960"/>
                <a:chOff x="3124080" y="4114800"/>
                <a:chExt cx="2438640" cy="2361960"/>
              </a:xfrm>
            </p:grpSpPr>
            <p:sp>
              <p:nvSpPr>
                <p:cNvPr id="261" name="Line 23"/>
                <p:cNvSpPr/>
                <p:nvPr/>
              </p:nvSpPr>
              <p:spPr>
                <a:xfrm>
                  <a:off x="3124080" y="411480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4"/>
                <p:cNvSpPr/>
                <p:nvPr/>
              </p:nvSpPr>
              <p:spPr>
                <a:xfrm>
                  <a:off x="3124080" y="4114800"/>
                  <a:ext cx="243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25"/>
                <p:cNvSpPr/>
                <p:nvPr/>
              </p:nvSpPr>
              <p:spPr>
                <a:xfrm>
                  <a:off x="5562720" y="411480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6"/>
                <p:cNvSpPr/>
                <p:nvPr/>
              </p:nvSpPr>
              <p:spPr>
                <a:xfrm>
                  <a:off x="3124080" y="6053040"/>
                  <a:ext cx="243864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Text Box 27"/>
            <p:cNvSpPr/>
            <p:nvPr/>
          </p:nvSpPr>
          <p:spPr>
            <a:xfrm>
              <a:off x="3352680" y="48412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СО</a:t>
              </a: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8"/>
            <p:cNvSpPr/>
            <p:nvPr/>
          </p:nvSpPr>
          <p:spPr>
            <a:xfrm>
              <a:off x="2286000" y="411480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9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1" descr="5_sample_reqs"/>
          <p:cNvPicPr/>
          <p:nvPr/>
        </p:nvPicPr>
        <p:blipFill>
          <a:blip r:embed="rId2"/>
          <a:srcRect l="5862" t="1202" r="9769" b="10818"/>
          <a:stretch/>
        </p:blipFill>
        <p:spPr>
          <a:xfrm>
            <a:off x="5410080" y="1017720"/>
            <a:ext cx="3124440" cy="25588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5"/>
          <p:cNvSpPr/>
          <p:nvPr/>
        </p:nvSpPr>
        <p:spPr>
          <a:xfrm>
            <a:off x="5410080" y="3581280"/>
            <a:ext cx="312444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5_req_form"/>
          <p:cNvPicPr/>
          <p:nvPr/>
        </p:nvPicPr>
        <p:blipFill>
          <a:blip r:embed="rId4"/>
          <a:stretch/>
        </p:blipFill>
        <p:spPr>
          <a:xfrm>
            <a:off x="905040" y="12175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1"/>
          <p:cNvSpPr/>
          <p:nvPr/>
        </p:nvSpPr>
        <p:spPr>
          <a:xfrm>
            <a:off x="1438200" y="13701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31:54Z</dcterms:modified>
  <cp:revision>149</cp:revision>
  <dc:subject/>
  <dc:title>Slide 1</dc:title>
</cp:coreProperties>
</file>